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41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37"/>
          </p:nvPr>
        </p:nvSpPr>
        <p:spPr>
          <a:xfrm>
            <a:off x="3858840" y="0"/>
            <a:ext cx="29545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sldImg"/>
          </p:nvPr>
        </p:nvSpPr>
        <p:spPr>
          <a:xfrm>
            <a:off x="920520" y="746280"/>
            <a:ext cx="497340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416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 type="sldNum" idx="39"/>
          </p:nvPr>
        </p:nvSpPr>
        <p:spPr>
          <a:xfrm>
            <a:off x="3858840" y="9443520"/>
            <a:ext cx="29545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8148-3C8D-48EC-92A6-A07EFCD929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73400" cy="37288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ульный сла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Номер слайда 3"/>
          <p:cNvSpPr/>
          <p:nvPr/>
        </p:nvSpPr>
        <p:spPr>
          <a:xfrm>
            <a:off x="3859200" y="9443880"/>
            <a:ext cx="2954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E214-3F72-4461-9E7E-F94B662AC5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7D8-C8AE-4AC1-9A8E-B7B891BE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1FD-2064-4029-B79F-BDD549CE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47193-0182-49E8-938D-FAF78479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8EF2B-EABD-494B-BC40-F801DEF1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C296E-8EAA-4D57-A0C3-22707C32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F8C6A-CC8B-48A8-94BC-5DF104B7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AB4BD5-7B21-43EF-89B2-7C243B91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C846D0-F5FC-43FE-8CE1-EC008444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F3C24-218F-48CA-AC8D-12422D2C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7E0C6-4BDB-47DF-8B9C-B19C589D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39A85-FD13-4FC1-A32E-D13DD7846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C4FB9-BBE0-49B1-B020-CCD15F9C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0EE-A27A-4954-B60B-50091B69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82FE2-50F9-41EF-9E65-D06806AF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59CD3-D10D-48EA-8E15-3CC3295E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4AC52-5D1B-415B-B65D-BC666EC1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4A862-775F-4728-B625-5ECC3579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A80AA-17BC-49AA-B9C2-2DE9717B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7A106-2688-4889-9537-948AE8D4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6AB8E-E036-40CD-ABA9-1CB89C5F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C9BFF-3547-4AD3-AE2A-4F1E3939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313BF-97F6-4C19-B583-DA7A1D0D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09F67-210F-48CD-9D97-2306366D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8FE-E8DB-4C5A-BB86-1FA924379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52E71-307B-455C-8BCE-4BAF018E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35006-1C2A-48C3-9FEE-3318FB494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009234-4F44-443F-BB4D-C9A2AB9C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FB1D1-0C10-42CF-A3C6-BE645E28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2E73B-013C-4103-A400-0B605134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BF7FF-A691-4AC1-88BD-08C38882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4394E-E130-47BB-AA13-37D3EC91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CE888-08F6-41EE-9EB0-2DFF59D0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B51C9-05C2-4760-8C11-436E84A7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03304-29D6-4DD7-8224-60431E7D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52C5-3D23-4C51-B15D-0D43B33CC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A7CAC-F6F0-4074-913E-B145677E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99C7A-2076-412A-A2DC-F140D1EC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F38D5-41F4-4850-B3CF-5F487F7A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F9348-75A3-4E1E-8826-A612FA898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74486-AEC9-498E-AB92-84189012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4E982-7450-4167-932D-A14D3B38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B17BE-C98E-4A90-B19F-5C4ACE1A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32EEA-F867-434C-BA12-776ABB05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66130-14D8-4B0F-B6E8-C5DA63DC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C2953B-83D2-42D2-B41F-E82DA161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2EFF-A3EC-4D6E-879E-FA1D8705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AE234-C082-408C-A3D5-A366FBEB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96B97-F7D1-445D-8560-C3242934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C2B05-D1B9-4B51-85A0-671CD2DE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B3EED-D6D8-405E-8709-13A56236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68783-AACD-4BD4-8FAF-D394A236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BECD-4C8F-4D30-AC0A-50E02667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489B-16B4-405B-A238-B334E943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6BFE-680D-4E9B-BC62-007E1974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A876-7381-4627-8BEF-0ECC2803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9F6F-B6F4-4A57-9E8A-7E577370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42DB-EFE5-47EF-9809-BEDC5214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647A-0C9C-424E-86F1-DDE87E33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5B50-018D-46A5-B3E8-3B8BB8B8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D819-6F7E-48DA-AFED-C3161C1A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8EB2-1557-49F8-A06E-64C32B8F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FAD8-5559-46A0-B551-ED1D2310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7DBF-1D8B-430F-BF4D-E76895AF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8E1F7-CE6F-458E-B2AA-022EEA19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8524D-7F5B-4093-8228-EEDF64AE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1DAE7-89FF-48C1-B725-B415AA32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55DAD-AE23-4815-94DF-0B176C47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F19-EEBA-4F39-BC2D-B6CCF257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3C109-521D-4C4F-886C-5A1589890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ED17-5E02-4271-AFBB-4F89A122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96F15-DC35-49A5-B02E-E0E417CF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86903-88DA-4C9D-8BCF-7D87CE6D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9B4A3-9BE9-436E-B39E-35CAD16D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0149A-1235-4488-9596-76C28ABF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0F335-D65C-4C4E-910B-836976E2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911DC-1BD7-4986-9D2A-8C296204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53E77-6170-4373-8ACE-569A263A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69616-449F-434D-857B-69F95A5C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DC7-06AB-4108-BCEB-856FC851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37E98-E956-4762-9280-59CA18C8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2588C-F1D4-43A2-AC15-D31903F3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11F17-2553-43D2-B032-34F619D6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9B6C4-4E08-4378-B2E2-CAC116BF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1B7EC-7B3C-4043-9908-315841F0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F2F7F-5215-4523-9D29-EDA689F6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32A3C-B885-4BDA-B7C1-D3890932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35C31-5520-4BD6-9CC1-8EDA65A5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C64DE-3DDC-4E9E-AD32-BA086B27F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3356E-6EF8-47DB-A1A4-9BC6FBEA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D3E0-2E6C-4023-9985-950E07D7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EE187-E47D-4AE7-8CCD-57F80656D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4D8EF-0F22-47EB-B635-5AC85D05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EA9A9-BBD1-4943-B982-11D4161A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4B317-D0BE-4DEA-8E35-B5F35DEC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02970-09AE-4CE2-8D0B-A02FE3DD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FF811-BB76-4C1E-B3EF-FDCA331D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3E894-09EF-4969-A566-5989A46A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7A443-142D-42DF-A95C-A19BD4BE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30DF5-5638-4859-83C5-A64F4F07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D913C-3435-4D28-99A6-1B249EFA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FB2-9AD1-4261-813C-0CBDAB42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7ADC4-2207-47CE-9FEF-492898BE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9D29E-0D5C-4DDF-84E9-747DA3E0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8CEDD-AA07-4FA3-A800-556A8DAC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1C86E-CBFA-45B8-BDDD-C537E34E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5A1E4-DA80-4CD4-A3DD-4EB941F4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12176-70E2-46DC-8DCF-CE05D7F5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C96E0-6D6D-4F08-864B-25C0594E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626AA-F5BD-4C74-A211-7FEB5E0C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92B0B-AD8B-43F3-AD75-A4F8B1EF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42587-9889-4003-AFAE-343ED30F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EC24-03A9-4F52-B4A9-A8BA7E6F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26624-7F0B-4F47-A23F-CAB686F3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75947-6FA3-4CD0-81E0-AB0DBA43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6FE95-A8EE-459D-8BF7-D3AF36D1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DAA11-6A06-4737-A77F-9DA5F102D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6D5C8-C119-41DA-8DE3-221A702E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8449B-DA09-48D1-9408-83320226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EC087-783B-469F-B7C4-B7470C57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077BE-967B-4B34-8DD9-68E5B49F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3CA58-881C-41D5-9B32-6B5A54BD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91FD7-76D6-48A7-AB8F-F8E869DD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B28-77A0-454B-ADC5-CE9560EE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E0FE7-0D83-4CC1-A912-7E0F08F0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791CA-9ACF-4B71-A139-35EDF020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F5166-7D4D-49E4-A3CE-C22A3020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3768E-25F9-4539-9F11-86597AD6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B70FF-FF6A-4030-A4CA-344D2AA9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013F4-95F1-4F44-A664-FD08299E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ABEB9-6CC7-448E-8928-90B512CC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4857D-6C0C-4915-B6BE-D726BA0A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DB5063-DEB5-4096-BA3C-C4BACB29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FE4A2-A877-4A27-8B5C-64FDBEB5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42A0-F263-46F7-BFB1-C53EA66E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41EE8-F434-4884-8010-3C95F1D9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70B63-66A0-4DD8-9211-710DDDA5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6114FA-F9E7-4DBB-8ACF-D76659C8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2A343-67E3-4336-A17A-BDACC849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9DCEF-80BE-4186-9E92-EB575099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0825F-2C9E-460D-9C77-24055D6B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7F68D-41FC-40E1-A4CF-7DF75DCB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029FC-3F89-49C9-87AD-C366AAB4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32CAD-A0EB-429A-9A68-958A149A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19D25-A187-40EF-A365-EA8BF4BC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0F4E-B206-4A9C-B158-8BE7AE67A325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0418-ED82-4497-BA96-F2C3053B8D5E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9470-4239-44D0-AF04-5F0C13BA52C1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CF03-7166-4A7E-8909-CE9F174CBE54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59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2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65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D913-2175-4FE1-9481-001FECF6415A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32D1-916D-4D11-9295-7CA32763BF5E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B67C-60A3-4D29-A277-521A9F123709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A9E6-7E9C-4283-9118-6FB9CB31F404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4022640"/>
            <a:ext cx="8643960" cy="25560"/>
            <a:chOff x="506520" y="4022640"/>
            <a:chExt cx="8643960" cy="255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402264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40356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C96B-B34F-4B9F-9779-920892A6EECE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DEF4-9D1E-4DBB-8535-BA7E4446A8CD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E098-5C1A-448F-95FF-13AFE7F52F2D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CFDB-C51A-4062-9F8D-61284EB5535F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707F-D1A0-46F5-97F2-14213E92651F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446D-7C66-4046-AED6-FB5171D376ED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89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92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95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B4EA-BB3A-43C6-94CA-BAEAAD920240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F84A-5603-45A4-AAA2-D3E86BF01E04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39" name="Прямая соединительная линия 10" descr=""/>
            <p:cNvPicPr/>
            <p:nvPr/>
          </p:nvPicPr>
          <p:blipFill>
            <a:blip r:embed="rId2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F97E-E274-428A-AD4A-7A80044EF4D4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554C-CADB-43DB-963D-4B7AB465F3D0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3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86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9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73C3-A507-4C3F-B61C-0FFF0F656010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Эффективное управление временем и ресурсами.                                                                                            </a:t>
            </a:r>
            <a:fld id="{15C94D06-6306-4F67-A61F-55059744B7D1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B5AD-421F-4897-A4D5-2DB6F83FECC5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345C-0A76-4699-B37E-30D59C93FDB3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374" name="Прямая соединительная линия 7" descr=""/>
            <p:cNvPicPr/>
            <p:nvPr/>
          </p:nvPicPr>
          <p:blipFill>
            <a:blip r:embed="rId2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da2bf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da2b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B392-675D-4A07-BF63-F95B3CF871CB}" type="datetime">
              <a:rPr b="0" lang="ru-RU" sz="1200" spc="-1" strike="noStrike">
                <a:solidFill>
                  <a:srgbClr val="268ea8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468360" y="6476760"/>
            <a:ext cx="852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68ea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A095-8382-4550-8C68-653AB72099EA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dunoskol.ru/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61440" y="2133720"/>
            <a:ext cx="84582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СОЗДАНИЕ МУНИЦИПАЛЬНОГО ЦЕНТРА </a:t>
            </a:r>
            <a:br>
              <a:rPr sz="2500"/>
            </a:br>
            <a:r>
              <a:rPr b="1" lang="ru-RU" sz="25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О ПОДГОТОВКЕ К ВСЕРОССИЙСКОЙ ОЛИМПИАДЕ ШКОЛЬНИКОВ ДЛЯ УЧАЩИХСЯ ОБЩЕОБРАЗОВАТЕЛЬНЫХ УЧРЕЖДЕНИЙ РАЙОНА НА БАЗЕ 4-Х ШКОЛ ГОРОДА</a:t>
            </a:r>
            <a:endParaRPr b="0" lang="en-US" sz="25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380520" y="1628280"/>
            <a:ext cx="845820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Управление образования администрации 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d3d3d"/>
                </a:solidFill>
                <a:latin typeface="Times New Roman"/>
                <a:ea typeface="Times New Roman"/>
              </a:rPr>
              <a:t>муниципального района «Новооскольский район»</a:t>
            </a:r>
            <a:endParaRPr b="0" lang="en-US" sz="2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58" name="TextBox 8"/>
          <p:cNvSpPr/>
          <p:nvPr/>
        </p:nvSpPr>
        <p:spPr>
          <a:xfrm>
            <a:off x="357120" y="5013360"/>
            <a:ext cx="57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Franklin Gothic Book"/>
              </a:rPr>
              <a:t>Заместитель начальника управления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Franklin Gothic Book"/>
              </a:rPr>
              <a:t>Лакомова Марина Борис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9"/>
          <p:cNvSpPr/>
          <p:nvPr/>
        </p:nvSpPr>
        <p:spPr>
          <a:xfrm>
            <a:off x="324000" y="6357960"/>
            <a:ext cx="67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595959"/>
                </a:solidFill>
                <a:latin typeface="Franklin Gothic Book"/>
              </a:rPr>
              <a:t>Новый Оскол, 2020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8"/>
          <p:cNvGrpSpPr/>
          <p:nvPr/>
        </p:nvGrpSpPr>
        <p:grpSpPr>
          <a:xfrm>
            <a:off x="326880" y="230040"/>
            <a:ext cx="1142640" cy="1294920"/>
            <a:chOff x="326880" y="230040"/>
            <a:chExt cx="1142640" cy="1294920"/>
          </a:xfrm>
        </p:grpSpPr>
        <p:pic>
          <p:nvPicPr>
            <p:cNvPr id="561" name="Picture 9" descr="gerbbot"/>
            <p:cNvPicPr/>
            <p:nvPr/>
          </p:nvPicPr>
          <p:blipFill>
            <a:blip r:embed="rId1"/>
            <a:stretch/>
          </p:blipFill>
          <p:spPr>
            <a:xfrm>
              <a:off x="326880" y="1054440"/>
              <a:ext cx="1142640" cy="47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10" descr="gerbtop"/>
            <p:cNvPicPr/>
            <p:nvPr/>
          </p:nvPicPr>
          <p:blipFill>
            <a:blip r:embed="rId2"/>
            <a:stretch/>
          </p:blipFill>
          <p:spPr>
            <a:xfrm>
              <a:off x="326880" y="230040"/>
              <a:ext cx="1142640" cy="82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ЦЕЛЬ И РЕЗУЛЬТАТ ПРОЕКТА</a:t>
            </a: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395280" y="1103400"/>
          <a:ext cx="8601120" cy="5562360"/>
        </p:xfrm>
        <a:graphic>
          <a:graphicData uri="http://schemas.openxmlformats.org/drawingml/2006/table">
            <a:tbl>
              <a:tblPr/>
              <a:tblGrid>
                <a:gridCol w="1890720"/>
                <a:gridCol w="6710400"/>
              </a:tblGrid>
              <a:tr h="885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проект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1 декабря 2020 года создать условия для качественной подготовки не менее 150 учащихся общеобразовательных учреждений Новооскольского к региональному этапу всероссийской олимпиады школьни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достижения цел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муниципального центра по подготовке к всероссийской олимпиаде школьников в Новооскольском райо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проек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на работа муниципального центра по подготовке не менее 150 учащихся  общеобразовательных учреждений района к всероссийской олимпиаде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бования к результату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Организована дистанционная подготовка к олимпиадам через участие в различных предметных конкурсах и дистанционных олимпиадах  100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Обеспечена консультационная поддержка не менее 150 учащихся, не менее 70 педагогов и не менее 100 родителей по вопросам, связанным с организацией и проведением олимпи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Курсы повышения квалификации прошли  не менее 10 уч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оставлены методические рекомендации по подготовке учащихся к всероссийской олимпиаде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Оказана психолого-педагогическая помощь по подготовке к олимпиаде не менее 40 учащимся и не менее 10 педагог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оведен аналитический семинар по выявлению причин низких результатов олимпиад и разработке рекомендаций по их устранению для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педагог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зователи результата проект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щиеся, педагоги, родители общеобразовательных учреждений Новооскольского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5" name="TextBox 5"/>
          <p:cNvSpPr/>
          <p:nvPr/>
        </p:nvSpPr>
        <p:spPr>
          <a:xfrm>
            <a:off x="4861080" y="152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2"/>
          <p:cNvSpPr/>
          <p:nvPr/>
        </p:nvSpPr>
        <p:spPr>
          <a:xfrm>
            <a:off x="8536680" y="6381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3000"/>
            </a:b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68" name="Номер слайда 3"/>
          <p:cNvSpPr/>
          <p:nvPr/>
        </p:nvSpPr>
        <p:spPr>
          <a:xfrm>
            <a:off x="8705880" y="6404040"/>
            <a:ext cx="277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IMG_4636"/>
          <p:cNvPicPr/>
          <p:nvPr/>
        </p:nvPicPr>
        <p:blipFill>
          <a:blip r:embed="rId1"/>
          <a:stretch/>
        </p:blipFill>
        <p:spPr>
          <a:xfrm>
            <a:off x="633240" y="1066680"/>
            <a:ext cx="2573640" cy="16160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P1000470"/>
          <p:cNvPicPr/>
          <p:nvPr/>
        </p:nvPicPr>
        <p:blipFill>
          <a:blip r:embed="rId2"/>
          <a:stretch/>
        </p:blipFill>
        <p:spPr>
          <a:xfrm>
            <a:off x="5778360" y="993600"/>
            <a:ext cx="3084480" cy="19386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6" descr="S8001193"/>
          <p:cNvPicPr/>
          <p:nvPr/>
        </p:nvPicPr>
        <p:blipFill>
          <a:blip r:embed="rId3"/>
          <a:stretch/>
        </p:blipFill>
        <p:spPr>
          <a:xfrm>
            <a:off x="353880" y="4280040"/>
            <a:ext cx="2767320" cy="18525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5" descr="P7140068"/>
          <p:cNvPicPr/>
          <p:nvPr/>
        </p:nvPicPr>
        <p:blipFill>
          <a:blip r:embed="rId4"/>
          <a:stretch/>
        </p:blipFill>
        <p:spPr>
          <a:xfrm>
            <a:off x="5924520" y="4138560"/>
            <a:ext cx="2970360" cy="2097000"/>
          </a:xfrm>
          <a:prstGeom prst="rect">
            <a:avLst/>
          </a:prstGeom>
          <a:ln w="0">
            <a:noFill/>
          </a:ln>
        </p:spPr>
      </p:pic>
      <p:sp>
        <p:nvSpPr>
          <p:cNvPr id="573" name="Rectangle 7"/>
          <p:cNvSpPr/>
          <p:nvPr/>
        </p:nvSpPr>
        <p:spPr>
          <a:xfrm>
            <a:off x="214200" y="2714760"/>
            <a:ext cx="358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БОУ «СОШ № 1 с УИОП имени Княжны Ольги Николаевны Романово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"/>
          <p:cNvSpPr/>
          <p:nvPr/>
        </p:nvSpPr>
        <p:spPr>
          <a:xfrm>
            <a:off x="5562720" y="6429240"/>
            <a:ext cx="358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БОУ «СОШ № 4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9"/>
          <p:cNvSpPr/>
          <p:nvPr/>
        </p:nvSpPr>
        <p:spPr>
          <a:xfrm>
            <a:off x="0" y="6357960"/>
            <a:ext cx="358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БОУ «СОШ № 3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8"/>
          <p:cNvSpPr/>
          <p:nvPr/>
        </p:nvSpPr>
        <p:spPr>
          <a:xfrm>
            <a:off x="5429160" y="2786040"/>
            <a:ext cx="358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БОУ «СОШ № 2 с УИО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Заголовок 1"/>
          <p:cNvSpPr/>
          <p:nvPr/>
        </p:nvSpPr>
        <p:spPr>
          <a:xfrm>
            <a:off x="642960" y="3143160"/>
            <a:ext cx="75009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Прямоугольник 18"/>
          <p:cNvSpPr/>
          <p:nvPr/>
        </p:nvSpPr>
        <p:spPr>
          <a:xfrm>
            <a:off x="928800" y="2714760"/>
            <a:ext cx="757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униципальный центр по подготовке 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 всероссийской олимпиаде школьников для учащихся общеобразовательных учреждений района на базе 4-х школ 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4920" y="213840"/>
            <a:ext cx="8686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ОЛИЧЕСТВО УЧАСТНИКОВ РЕГИОНАЛЬНОГО ЭТАПА ВСЕРОССИЙСКОЙ ОЛИМПИАДЫ ШКОЛЬНИКОВ В 2017-2018 УЧЕБНОМ ГОДУ</a:t>
            </a:r>
            <a:endParaRPr b="0" lang="en-US" sz="17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580" name="Содержимое 4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8848800" cy="5357880"/>
          </a:xfrm>
          <a:prstGeom prst="rect">
            <a:avLst/>
          </a:prstGeom>
          <a:ln w="0">
            <a:noFill/>
          </a:ln>
        </p:spPr>
      </p:pic>
      <p:sp>
        <p:nvSpPr>
          <p:cNvPr id="581" name="Номер слайда 3"/>
          <p:cNvSpPr/>
          <p:nvPr/>
        </p:nvSpPr>
        <p:spPr>
          <a:xfrm>
            <a:off x="468360" y="6477120"/>
            <a:ext cx="852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BB21-02A3-4041-86F8-F217B450CD73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4920" y="214200"/>
            <a:ext cx="8686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ОЛИЧЕСТВО ПОБЕДИТЕЛЕЙ И ПРИЗЕРОВ РЕГИОНАЛЬНОГО ЭТАПА ВСЕРОССИЙСКОЙ ОЛИМПИАДЫ ШКОЛЬНИКОВ В 2017-2018 УЧЕБНОМ ГОДУ</a:t>
            </a:r>
            <a:endParaRPr b="0" lang="en-US" sz="1700" spc="-1" strike="noStrike">
              <a:solidFill>
                <a:srgbClr val="464646"/>
              </a:solidFill>
              <a:latin typeface="Franklin Gothic Medium"/>
            </a:endParaRPr>
          </a:p>
        </p:txBody>
      </p:sp>
      <p:pic>
        <p:nvPicPr>
          <p:cNvPr id="583" name="Содержимое 4" descr=""/>
          <p:cNvPicPr/>
          <p:nvPr/>
        </p:nvPicPr>
        <p:blipFill>
          <a:blip r:embed="rId1"/>
          <a:stretch/>
        </p:blipFill>
        <p:spPr>
          <a:xfrm>
            <a:off x="304920" y="1000080"/>
            <a:ext cx="8686800" cy="5429160"/>
          </a:xfrm>
          <a:prstGeom prst="rect">
            <a:avLst/>
          </a:prstGeom>
          <a:ln w="0">
            <a:noFill/>
          </a:ln>
        </p:spPr>
      </p:pic>
      <p:sp>
        <p:nvSpPr>
          <p:cNvPr id="584" name="Номер слайда 3"/>
          <p:cNvSpPr/>
          <p:nvPr/>
        </p:nvSpPr>
        <p:spPr>
          <a:xfrm>
            <a:off x="468360" y="6477120"/>
            <a:ext cx="8523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D757-DE45-4FE8-9991-6CD1C16553D3}" type="slidenum">
              <a:rPr b="0" lang="ru-RU" sz="1400" spc="-1" strike="noStrike">
                <a:solidFill>
                  <a:srgbClr val="268ea8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12" descr="Картинки по запросу 3d человечки медицина для презентаций"/>
          <p:cNvPicPr/>
          <p:nvPr/>
        </p:nvPicPr>
        <p:blipFill>
          <a:blip r:embed="rId1"/>
          <a:stretch/>
        </p:blipFill>
        <p:spPr>
          <a:xfrm>
            <a:off x="5572080" y="857160"/>
            <a:ext cx="1928880" cy="19288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8" descr="C:\Documents and Settings\Ганагин\Рабочий стол\na-sajt.jpg"/>
          <p:cNvPicPr/>
          <p:nvPr/>
        </p:nvPicPr>
        <p:blipFill>
          <a:blip r:embed="rId2"/>
          <a:stretch/>
        </p:blipFill>
        <p:spPr>
          <a:xfrm>
            <a:off x="3000240" y="3214800"/>
            <a:ext cx="3214800" cy="23144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4920" y="260280"/>
            <a:ext cx="86868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ВВЕДЕНИЕ В ПРЕДМЕТНУЮ ОБЛАСТЬ</a:t>
            </a:r>
            <a:br>
              <a:rPr sz="3000"/>
            </a:br>
            <a:r>
              <a:rPr b="1" lang="ru-RU" sz="3000" spc="-1" strike="noStrike">
                <a:solidFill>
                  <a:srgbClr val="464646"/>
                </a:solidFill>
                <a:latin typeface="Franklin Gothic Medium"/>
              </a:rPr>
              <a:t>(ОПИСАНИЕ СИТУАЦИИ «КАК БУДЕТ»)</a:t>
            </a:r>
            <a:br>
              <a:rPr sz="3000"/>
            </a:br>
            <a:endParaRPr b="0" lang="en-US" sz="30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88" name="Прямоугольник 1"/>
          <p:cNvSpPr/>
          <p:nvPr/>
        </p:nvSpPr>
        <p:spPr>
          <a:xfrm>
            <a:off x="8487720" y="6237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Заголовок 3"/>
          <p:cNvSpPr/>
          <p:nvPr/>
        </p:nvSpPr>
        <p:spPr>
          <a:xfrm>
            <a:off x="1000080" y="1357200"/>
            <a:ext cx="5715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ДАНИЕ ЕДИНОЙ СИСТЕМЫ ПОДГОТОВ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ЩИХСЯ К УЧАСТИЮ ВО ВСЕРОССИЙСКОЙ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ЛИМПИАДЕ ШКОЛЬНИКОВ </a:t>
            </a:r>
            <a:br>
              <a:rPr sz="3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7" descr="C:\Documents and Settings\Ганагин\Рабочий стол\6SBS7jSX-Vg.jpg"/>
          <p:cNvPicPr/>
          <p:nvPr/>
        </p:nvPicPr>
        <p:blipFill>
          <a:blip r:embed="rId3"/>
          <a:stretch/>
        </p:blipFill>
        <p:spPr>
          <a:xfrm>
            <a:off x="6500880" y="2857680"/>
            <a:ext cx="2643120" cy="19825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9" descr="C:\Documents and Settings\Ганагин\Рабочий стол\f69044c8e3_500.jpg"/>
          <p:cNvPicPr/>
          <p:nvPr/>
        </p:nvPicPr>
        <p:blipFill>
          <a:blip r:embed="rId4"/>
          <a:stretch/>
        </p:blipFill>
        <p:spPr>
          <a:xfrm>
            <a:off x="428760" y="2428920"/>
            <a:ext cx="2428920" cy="2122560"/>
          </a:xfrm>
          <a:prstGeom prst="rect">
            <a:avLst/>
          </a:prstGeom>
          <a:ln w="0">
            <a:noFill/>
          </a:ln>
        </p:spPr>
      </p:pic>
      <p:sp>
        <p:nvSpPr>
          <p:cNvPr id="592" name="Прямоугольник 11"/>
          <p:cNvSpPr/>
          <p:nvPr/>
        </p:nvSpPr>
        <p:spPr>
          <a:xfrm>
            <a:off x="6500880" y="4643280"/>
            <a:ext cx="264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танционная подготовка к олимпиадам через участие в различных предметных конкурсах и дистанционных олимпиад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12"/>
          <p:cNvSpPr/>
          <p:nvPr/>
        </p:nvSpPr>
        <p:spPr>
          <a:xfrm>
            <a:off x="11880" y="4500720"/>
            <a:ext cx="246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вышение квалифик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чит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10" descr="C:\Documents and Settings\Ганагин\Рабочий стол\56b119aeaa1e6.jpg"/>
          <p:cNvPicPr/>
          <p:nvPr/>
        </p:nvPicPr>
        <p:blipFill>
          <a:blip r:embed="rId5"/>
          <a:stretch/>
        </p:blipFill>
        <p:spPr>
          <a:xfrm>
            <a:off x="2286000" y="1143000"/>
            <a:ext cx="2095560" cy="1506600"/>
          </a:xfrm>
          <a:prstGeom prst="rect">
            <a:avLst/>
          </a:prstGeom>
          <a:ln w="0">
            <a:noFill/>
          </a:ln>
        </p:spPr>
      </p:pic>
      <p:sp>
        <p:nvSpPr>
          <p:cNvPr id="595" name="Прямоугольник 14"/>
          <p:cNvSpPr/>
          <p:nvPr/>
        </p:nvSpPr>
        <p:spPr>
          <a:xfrm>
            <a:off x="2286720" y="2500200"/>
            <a:ext cx="239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ихолого-педагогическ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провожд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16"/>
          <p:cNvSpPr/>
          <p:nvPr/>
        </p:nvSpPr>
        <p:spPr>
          <a:xfrm>
            <a:off x="4714920" y="2643120"/>
            <a:ext cx="264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здание банков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/>
          </p:nvPr>
        </p:nvSpPr>
        <p:spPr>
          <a:xfrm>
            <a:off x="409320" y="4111560"/>
            <a:ext cx="8458200" cy="217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3d3d"/>
                </a:solidFill>
                <a:latin typeface="Franklin Gothic Book"/>
              </a:rPr>
              <a:t>Руководитель проекта: 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Нехаев Юрий Николаевич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               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Электронный адрес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ranklin Gothic Book"/>
                <a:hlinkClick r:id="rId1"/>
              </a:rPr>
              <a:t>http://www.edunoskol.ru/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, 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тел. 8 (47 233) 4-50-90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d3d3d"/>
                </a:solidFill>
                <a:latin typeface="Franklin Gothic Book"/>
              </a:rPr>
              <a:t>Администратор проекта: </a:t>
            </a: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Лакомова Марина Борисовна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d3d3d"/>
                </a:solidFill>
                <a:latin typeface="Franklin Gothic Book"/>
              </a:rPr>
              <a:t>тел. 8 (47 233) 4-51-47</a:t>
            </a: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  <a:p>
            <a:pPr marL="1296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Franklin Gothic Medium"/>
              </a:rPr>
              <a:t>КОНТАКТНЫЕ ДАННЫЕ: </a:t>
            </a:r>
            <a:br>
              <a:rPr sz="3200"/>
            </a:br>
            <a:endParaRPr b="0" lang="en-US" sz="3200" spc="-1" strike="noStrike">
              <a:solidFill>
                <a:srgbClr val="464646"/>
              </a:solidFill>
              <a:latin typeface="Franklin Gothic Medium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1508040" y="3390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1"/>
          <p:cNvSpPr/>
          <p:nvPr/>
        </p:nvSpPr>
        <p:spPr>
          <a:xfrm>
            <a:off x="8394120" y="6093000"/>
            <a:ext cx="41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3:06:54Z</dcterms:created>
  <dc:creator>Павел Гончаренко</dc:creator>
  <dc:description/>
  <dc:language>en-US</dc:language>
  <cp:lastModifiedBy>lakomova_m</cp:lastModifiedBy>
  <cp:lastPrinted>2013-01-24T11:51:16Z</cp:lastPrinted>
  <dcterms:modified xsi:type="dcterms:W3CDTF">2021-07-11T09:32:46Z</dcterms:modified>
  <cp:revision>877</cp:revision>
  <dc:subject/>
  <dc:title>Слайд 1</dc:title>
</cp:coreProperties>
</file>