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89AC-0BA5-459F-9C6A-4F9CDE0155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C92A-2B9B-4AF9-A4A5-AA10FED90D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842-146F-4A58-A5DA-FE2C22C0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1F7-9312-4578-9902-A4E7E1C0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FF1F7-6496-4BEE-9A8D-32601B03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E4A6C-1CAC-4C96-A42E-4D0A9E19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46570-C5AF-443E-98C7-1CD1A6B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A8E68-5B5D-42BA-BDFE-FB82DE4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C4666-E769-4B2F-93D3-A62799F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E317B-3AA0-4BDD-9F5A-DA4169CD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9B0E3-C96C-4696-9963-90F6E51D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12AA9-A27A-4EAC-A14E-0DF022BE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4C7E9-C34D-43CA-80C1-0282C739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A5E56-A152-4143-9180-32A5FE9D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927-D956-4901-AED3-836AC10E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4072A-C8AA-47AC-8834-D3AE6C8F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F86CC-EA34-4A74-B4FA-1E9F043E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7FD54-4DE3-4A0C-822E-97A56A2E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34779-B932-4462-8300-22BFA0F0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79FAA-CBEF-46C5-A18E-D1EB270F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4CD77-E844-462E-87B7-3D61C24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41D3F-5496-4636-B105-BBC249A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93C9A-9D91-4E93-9F5E-2E61E1F7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74710-7DCD-430D-866B-EE0C7DE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73659-7A52-4DA9-AE3B-27C09066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496-DE92-4953-A62F-8642D679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EE827-286D-48C0-B5DB-29D02AA1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5FB23-80E9-44AA-826B-0C913F91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3CEE4-CF8F-4E10-BFA8-7BAE5F4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A2867-B819-47DF-83B5-99B732D9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55FC9-01AD-473A-B119-1B02D911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3FBD9-4349-4BFC-9888-0C14C95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BA32-08BB-43A3-B376-9CB0EAD3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10974-3B20-48D8-99BF-5F7099EC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67117-FC13-4CB9-BDE6-83613AB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0925D-019C-40A2-8875-938F9D99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B4AC-2125-4A3D-8139-BF5F2E9A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23CC7-4639-4CC6-B2DF-F6E473E7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CFC63-0F9F-4566-B005-A825A928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ACFE6-5ECD-460B-97F0-CAE9F16B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315FF-FBCC-437F-BFA0-8ECE2ED1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F0BA5-47B8-49EB-B818-F7C1855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E6889-EA91-4890-8E66-A8150055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FEE40-754F-475B-AB88-EAACD302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48099-DB90-46BE-8219-3CBB34D2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1975F-89E4-491D-9494-FED3C9E6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B95B5-C6B4-45D9-A1D1-93ABABC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D9E0-7ABA-40D2-BA56-5B77DFD7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5B7C6-3DC3-4ACB-A729-B6FFE30A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42DA4-8B4E-4ADB-80F0-9E650EB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DE6C1-5D21-4E2F-9856-940B81F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65C20-9542-4F1C-9329-DFE58B2A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03BF7-D63C-42A6-A9D3-D2A790E0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F199-B88A-4464-B275-8E80DA22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60C5-C211-479C-AC38-D10EB084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9ABC-937B-4145-B189-5C5C955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900E-C217-436F-8E73-E815F4FA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9A81-AB73-44FA-B8EF-9A379F7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78A-3C32-4FB3-97CA-BE29297B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D85B-77F5-419A-B6E2-868503A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2915-E4BB-41C4-B5B2-D8909AB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4F1-1979-4502-AFC0-B799990C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B3BB-90D5-44E2-8BBB-F0001925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5112-32B4-4324-B0B2-BF295474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919A-9E60-4AEB-B591-2CAB2DDE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1306-DFE5-4C14-AABC-28238BDA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3AB2-205E-48E1-88DC-E4B2F7B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5903-B8F9-46F9-9266-3AD03D4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792F-9EC7-49E1-8063-AA615811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DBD-25E6-40ED-B0F1-CEDB57B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8679-CFF8-49C7-828D-FE989E5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CEE7-99A8-4CD7-94EA-51D871FD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63F9-817A-4177-ADA3-95CEB4E7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80FA-73FE-4E36-A237-EEC17803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5731-C7D0-427B-A23E-68205D95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97F7-053B-4B17-9DB1-D45519B7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F673-6983-43FC-B50B-10731A6E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B906-E4A8-424C-BC2E-D0A16536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698E-422E-4D3F-8502-BB2CCAF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D604-1DCC-4DB2-A78D-D99A1DD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9C7-74E4-4C05-83EC-705EC04B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5817-00B5-4A9F-B799-6D350A30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BCB5-361D-4FB4-BB64-8A7B99E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629F-BADE-4D5E-926F-9014B7C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8C144-88CE-40D6-8702-EEE599BA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316A-C13B-4FCC-B8B1-A9BBC29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D0EF-4348-408F-9131-7502F31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A34E-CCE8-486A-BBDA-F328B8BF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29C5-9206-4956-B943-DB7CB9C5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4BFC-F451-4B32-B661-75C98AAF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F2B9-9AAC-4CA7-9B93-321586BC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737-E333-49E8-ACB5-0C8681F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3790-DD4D-4B9B-9B72-3B82CD6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FD93-CA9B-48F7-897A-6052830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0DAE-EFCC-4E65-995C-9CFC8AE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C3C6-E446-43D8-B172-53831FFD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78F3-D421-4610-A214-48CC5414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C693-EEAC-4C1C-9DB8-192A700B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6487-0D07-42C0-A342-A09DA127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5C15-7305-481F-A3A5-4FF4F75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0CFE-F9E1-41C2-9FC4-A41E9DBD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CFE1C-5120-47E3-A893-AEC7002D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FF7-C712-42F5-9B3C-823489FA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1136-8C5F-407C-BCE2-86593E7B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C7F93-C1EE-4506-8FF6-937F2BAA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1B77-078C-4FEA-A1D2-3FE4F6AB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22B24-824C-4056-BC15-D602BD09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13B17-F125-4270-B4A2-1DF239BF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D3071-97DB-4D04-8002-E557617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64A6-CA0A-4B3A-A8EC-7EF0448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B25F7-4BE0-45DF-A78B-A709BEF2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B967C-B10A-42AE-BBEA-322DB29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D059-E93B-4BD4-AE8D-44F18ED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72E-4EA8-4300-BF33-03A57C52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2FAE4-7BEE-40D8-AA65-6BA30BAE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FD174-A90B-4AA8-9423-C6035796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A9FAC-496D-42DE-8422-B1865917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8CD09-8CAB-4A15-8CEA-D8CA6E45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D985-1078-420A-993E-04E43D62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1C1C4-9735-4F1D-B9C4-DB9D295F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5C464-1F83-4AB1-8C1C-46B34BDF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6D5E-1FE1-4023-B315-F32D34B8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DBAC-ABF7-45A7-8C20-BF8ED28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794CA-7403-4F65-AF62-4202683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737-D4BD-453D-B450-07ECA3F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AC9E-2532-4F7D-A4B4-1029A0A6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6D7B-8E87-488E-8CD6-1B8844B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11718-C841-42AC-885A-D002124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E12F-DD6B-4916-A616-771BF6C5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6697-2B67-432D-9A23-E3DDAF86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D01CA-74D4-48C1-910B-2E1BD1B3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3DB41-A4D0-48B5-89A9-D5DDEAE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D592D-5EAA-4C3F-AF7E-FB082AC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A7A56-3F22-4C5A-A960-64413DD1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F7175-DA3A-4FF8-8755-608A1A54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24A-EDE4-421E-A6EE-1B6540B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18268-FE94-4C9B-B91E-3D8918BF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D958-34DB-4BA4-BA43-09690E73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43B0-8118-4E09-B8CA-0653ED9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61A32-4A8B-4C49-B038-07583969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88D70-81B5-4434-9875-F77F61D0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F98E-1DD6-4416-B1BB-A91BF7A9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97B1B-38A6-426B-8FA5-B3E1EF59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5B9D3-4893-4A07-AB25-299EC38B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DACD0-AB12-4439-8116-F4CC527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A8CB4-034C-4264-A237-03599D5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718D-8E30-4D68-B7B1-17D6437A65F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A89-C406-4254-BAAB-85E060494DE2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699C-4993-4E72-9195-2300393BA1A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ABBC-2248-4839-AE28-E481F386AE4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80C-D6E7-4B3A-BEF3-0F61CDF3907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899D-AB48-4E78-849A-62E1D36432D9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8342-1A06-4C39-8FC3-C2A7DB71216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32C-C8D1-41A6-A34F-9303799125D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4022640"/>
            <a:ext cx="8643960" cy="25560"/>
            <a:chOff x="506520" y="4022640"/>
            <a:chExt cx="8643960" cy="255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402264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223-170E-4382-9074-FB61AB2B94F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1849-1BAF-4065-88A6-08E4433F896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3180-8D51-4A90-AAE6-7DF3A949E07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C55-949E-41EE-ACEC-513F511C690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2FEF-9855-45B2-8DC5-064F53F3B7B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F566-CBE0-4363-AC24-928B6D4C79D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23F-4AE8-4670-9B70-3012EB73E04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341-1F11-4726-9F6F-294309782854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DC6B-2C83-4E9A-A694-C545B83967D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6D4-91D7-415C-8323-38BC3ED64F4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EA0C-86F8-434B-9943-13654ECC125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E80CEBC6-1FC1-4EB3-91D0-64D1AA3C3F3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AE9C-9430-428E-93A9-A8D61B13A97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4589-D2E3-46E9-B29D-68BC005BEB1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D1C-E928-4EBE-A836-AB662864A33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4F65-D463-46F9-95D6-6A168A913F2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dunoskol.ru/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1440" y="213372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400" spc="-1" strike="noStrike">
                <a:solidFill>
                  <a:srgbClr val="464646"/>
                </a:solidFill>
                <a:latin typeface="Franklin Gothic Medium"/>
              </a:rPr>
              <a:t>«РАЗВИТИЕ КОНСТРУКТИВНОЙ И ИССЛЕДОВАТЕЛЬСКОЙ ДЕЯТЕЛЬНОСТИ СТАРШИХ ДОШКОЛЬНИКОВ В УСЛОВИЯХ </a:t>
            </a:r>
            <a:br>
              <a:rPr sz="2400"/>
            </a:br>
            <a:r>
              <a:rPr b="1" lang="ru-RU" sz="2400" spc="-1" strike="noStrike">
                <a:solidFill>
                  <a:srgbClr val="464646"/>
                </a:solidFill>
                <a:latin typeface="Franklin Gothic Medium"/>
              </a:rPr>
              <a:t>УЧЕБНО – ИГРОВОГО ЛЕГО - ЦЕНТРА» </a:t>
            </a:r>
            <a:br>
              <a:rPr sz="2400"/>
            </a:br>
            <a:endParaRPr b="0" lang="en-US" sz="24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80520" y="1628280"/>
            <a:ext cx="84582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правление образования администрации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муниципального района «Новооскольский район»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57120" y="5013360"/>
            <a:ext cx="572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Начальник управления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администрации Новоосколь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Franklin Gothic Book"/>
              </a:rPr>
              <a:t>Нехаев Юрий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2400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Franklin Gothic Book"/>
              </a:rPr>
              <a:t>Новый Оскол, 202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326880" y="230040"/>
            <a:ext cx="1142640" cy="1294920"/>
            <a:chOff x="326880" y="230040"/>
            <a:chExt cx="1142640" cy="1294920"/>
          </a:xfrm>
        </p:grpSpPr>
        <p:pic>
          <p:nvPicPr>
            <p:cNvPr id="561" name="Picture 9" descr="gerbbot"/>
            <p:cNvPicPr/>
            <p:nvPr/>
          </p:nvPicPr>
          <p:blipFill>
            <a:blip r:embed="rId1"/>
            <a:stretch/>
          </p:blipFill>
          <p:spPr>
            <a:xfrm>
              <a:off x="326880" y="1054440"/>
              <a:ext cx="114264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0" descr="gerbtop"/>
            <p:cNvPicPr/>
            <p:nvPr/>
          </p:nvPicPr>
          <p:blipFill>
            <a:blip r:embed="rId2"/>
            <a:stretch/>
          </p:blipFill>
          <p:spPr>
            <a:xfrm>
              <a:off x="326880" y="230040"/>
              <a:ext cx="1142640" cy="82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08000" y="1125360"/>
          <a:ext cx="8928000" cy="5254920"/>
        </p:xfrm>
        <a:graphic>
          <a:graphicData uri="http://schemas.openxmlformats.org/drawingml/2006/table">
            <a:tbl>
              <a:tblPr/>
              <a:tblGrid>
                <a:gridCol w="363600"/>
                <a:gridCol w="2371680"/>
                <a:gridCol w="792000"/>
                <a:gridCol w="936720"/>
                <a:gridCol w="863640"/>
                <a:gridCol w="720720"/>
                <a:gridCol w="812880"/>
                <a:gridCol w="771480"/>
                <a:gridCol w="718920"/>
                <a:gridCol w="576360"/>
              </a:tblGrid>
              <a:tr h="27432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инвест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ом сайте управления образования информации о ходе реализации проек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муниципального информационно-методического семинара о работе 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ить методические рекомендации по работе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итогов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9" name="Прямоугольник 2"/>
          <p:cNvSpPr/>
          <p:nvPr/>
        </p:nvSpPr>
        <p:spPr>
          <a:xfrm>
            <a:off x="8536680" y="648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УЧАСТИЕ БЮДЖЕТОВ В ПРОЕКТЕ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50920" y="1116000"/>
          <a:ext cx="8785080" cy="5192640"/>
        </p:xfrm>
        <a:graphic>
          <a:graphicData uri="http://schemas.openxmlformats.org/drawingml/2006/table">
            <a:tbl>
              <a:tblPr/>
              <a:tblGrid>
                <a:gridCol w="461880"/>
                <a:gridCol w="3498840"/>
                <a:gridCol w="1584360"/>
                <a:gridCol w="1511280"/>
                <a:gridCol w="1728720"/>
              </a:tblGrid>
              <a:tr h="33516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орма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мер участия бюджета 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ямое бюджетное финанс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емельный учас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нфра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р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лектро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зо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до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рант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чие формы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36000" r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Номер слайда 3"/>
          <p:cNvSpPr/>
          <p:nvPr/>
        </p:nvSpPr>
        <p:spPr>
          <a:xfrm>
            <a:off x="8643960" y="6429240"/>
            <a:ext cx="34776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631-94B3-43E6-93B4-167258CA602E}" type="slidenum">
              <a:rPr b="1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43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ПОКАЗАТЕЛИ СОЦИАЛЬНОЙ, БЮДЖЕТНОЙ И ЭКОНОМИЧЕСКОЙ ЭФФЕКТИВНОСТИ ПРОЕКТА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79280" y="1073160"/>
          <a:ext cx="8882280" cy="5607000"/>
        </p:xfrm>
        <a:graphic>
          <a:graphicData uri="http://schemas.openxmlformats.org/drawingml/2006/table">
            <a:tbl>
              <a:tblPr/>
              <a:tblGrid>
                <a:gridCol w="466920"/>
                <a:gridCol w="6373800"/>
                <a:gridCol w="1177920"/>
                <a:gridCol w="863640"/>
              </a:tblGrid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циальн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астие населения в реализации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овые рабочие ме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яя 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ячный Ф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Ф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И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н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астие бюджетных источников в проек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и в консолидированный бюджет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 с 1 работника в консолидированный бюджет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ок окупаемости бюджетных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Снижение возможного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кономия бюдже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кономическ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объем выручки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объем прибыли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нтаб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ок окупаемости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ъем инвестиций в основной капитал в рамках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ъем инвестиций, осваиваемых на территории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Прямоугольник 6"/>
          <p:cNvSpPr/>
          <p:nvPr/>
        </p:nvSpPr>
        <p:spPr>
          <a:xfrm>
            <a:off x="179280" y="6626160"/>
            <a:ext cx="61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* -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14200" y="509760"/>
          <a:ext cx="8786880" cy="6190920"/>
        </p:xfrm>
        <a:graphic>
          <a:graphicData uri="http://schemas.openxmlformats.org/drawingml/2006/table">
            <a:tbl>
              <a:tblPr/>
              <a:tblGrid>
                <a:gridCol w="363600"/>
                <a:gridCol w="1636920"/>
                <a:gridCol w="3357360"/>
                <a:gridCol w="3429000"/>
              </a:tblGrid>
              <a:tr h="31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Роль в проек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Богачев Виктор Алекс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главы администрации района по социальной поли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тор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ехаев Юрий Никола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Лакомова Марина Борис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лова Ирина Алекс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Титова Наталья Вячеслав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отдела прогнозирования и экономического анализа бюджетного процесса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курсы повышения квалификаци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талова Людмила Вячеслав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пециалист управл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проведение анкетирования на выявление конструктивных и исследовательских навыков дошкольников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сникова Ири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2 компенсирующе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Ум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ыкина Ольг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3 комбинированно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Д/с №3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а Александра Иван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9 комбинированно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Д/с №9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юнова Ирина Владими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МБУ ДО «Детский сад № 10 комбинированного вида г. Нового Оскола Белгород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БДОУ «Д/с №1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09320" y="4111560"/>
            <a:ext cx="8458200" cy="217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Руководитель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Нехаев Юрий Николаевич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              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Электронный адрес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Book"/>
                <a:hlinkClick r:id="rId1"/>
              </a:rPr>
              <a:t>http://www.edunoskol.ru/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, 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0-90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Лакомова Марина Борисовна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1-47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8394120" y="6093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4" name="Прямоугольник 3"/>
          <p:cNvSpPr/>
          <p:nvPr/>
        </p:nvSpPr>
        <p:spPr>
          <a:xfrm>
            <a:off x="8608320" y="64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0" y="1571760"/>
            <a:ext cx="2714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ФГОС ДО к созданию развивающей предметно – пространственной среды, ориентированной на овладение детьми способами усвоения знаний на основе системно – деятельностного под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C:\Documents and Settings\Ганагин\Рабочий стол\фгос.jpg"/>
          <p:cNvPicPr/>
          <p:nvPr/>
        </p:nvPicPr>
        <p:blipFill>
          <a:blip r:embed="rId1"/>
          <a:stretch/>
        </p:blipFill>
        <p:spPr>
          <a:xfrm>
            <a:off x="0" y="4143240"/>
            <a:ext cx="2786040" cy="2714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C:\Documents and Settings\Ганагин\Рабочий стол\3307717c0fe122dc2ed142f42c77bf35_XL.jpg"/>
          <p:cNvPicPr/>
          <p:nvPr/>
        </p:nvPicPr>
        <p:blipFill>
          <a:blip r:embed="rId2"/>
          <a:stretch/>
        </p:blipFill>
        <p:spPr>
          <a:xfrm>
            <a:off x="2857680" y="1143000"/>
            <a:ext cx="2992320" cy="207972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11"/>
          <p:cNvSpPr/>
          <p:nvPr/>
        </p:nvSpPr>
        <p:spPr>
          <a:xfrm>
            <a:off x="2786040" y="3286080"/>
            <a:ext cx="3214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 дошкольных образовательных учреждениях Новооскольского района (МДОУ Д/с №2, МДОУ Д/с №3, МБДОУ Д/с №9, МДОУ Д/с №10 имеются условия (материальные, кадровые, методические и т.д.) для создания учебно – игрового ЛЕГО -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0" descr=""/>
          <p:cNvPicPr/>
          <p:nvPr/>
        </p:nvPicPr>
        <p:blipFill>
          <a:blip r:embed="rId3"/>
          <a:stretch/>
        </p:blipFill>
        <p:spPr>
          <a:xfrm>
            <a:off x="6072120" y="3286080"/>
            <a:ext cx="2857680" cy="342756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14"/>
          <p:cNvSpPr/>
          <p:nvPr/>
        </p:nvSpPr>
        <p:spPr>
          <a:xfrm>
            <a:off x="6000840" y="1143000"/>
            <a:ext cx="3143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дошкольных образовательных учреждений Новооскольского района являются активными участниками Межрайонного фестиваля технического творчества и 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85760" y="642960"/>
          <a:ext cx="8815320" cy="5624640"/>
        </p:xfrm>
        <a:graphic>
          <a:graphicData uri="http://schemas.openxmlformats.org/drawingml/2006/table">
            <a:tbl>
              <a:tblPr/>
              <a:tblGrid>
                <a:gridCol w="1785960"/>
                <a:gridCol w="7029360"/>
              </a:tblGrid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к 1 сентября 2020 года условия для развития конструктивной и исследовательской деятельности в дошкольных образовательных учреждения Новооскольского района (МБДОУ Д/с «Умка», МБДОУ Д/с №3, МБДОУ Д/с №9, МБДОУ Д/с №10) с охватом не менее 150 старших до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достижения 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униципального учебно-игрового Лего – центра на базе 3-х дошкольных образовательных учреждениях Новооскольского района (МБДОУ Д/с «Умка», МБДОУ Д/с №3, МБДОУ Д/с №10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а работа муниципального учебно-игрового Лего – центра для не менее 150 воспитан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у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о анкетирование на выявление конструктивных и исследовательских навыков у не менее 150 до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урсы повышения квалификации прошли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6 воспита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твержден приказ по созданию муниципального учебно-игрового Лего – центра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азработка положения о деятельности муниципального  учебно-игрового ЛЕГО-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Организованы и проведены не менее 10 консультаций и 5 семинаров для родителей по ознакомлению с ЛЕГО - конструированием и робототехникой в дошкольных образовательных учрежден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оведен мастер-класс для родителей по использованию ЛЕГО-конструирования в детском са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ники, педагоги, родители дошкольных образовательных учреждений Новоосколь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TextBox 5"/>
          <p:cNvSpPr/>
          <p:nvPr/>
        </p:nvSpPr>
        <p:spPr>
          <a:xfrm>
            <a:off x="4861080" y="152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8" descr="C:\Documents and Settings\Ганагин\Рабочий стол\na-sajt.jpg"/>
          <p:cNvPicPr/>
          <p:nvPr/>
        </p:nvPicPr>
        <p:blipFill>
          <a:blip r:embed="rId1"/>
          <a:stretch/>
        </p:blipFill>
        <p:spPr>
          <a:xfrm>
            <a:off x="642960" y="3714840"/>
            <a:ext cx="3214800" cy="23144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4857840" y="3071880"/>
            <a:ext cx="4286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642960" y="3143160"/>
            <a:ext cx="7500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18"/>
          <p:cNvSpPr/>
          <p:nvPr/>
        </p:nvSpPr>
        <p:spPr>
          <a:xfrm>
            <a:off x="428760" y="5473800"/>
            <a:ext cx="35002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учебно-игр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 – центр на базе МДОУ Д/с №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Д/с №3, МБДОУ Д/с №9, МДОУ Д/с №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3"/>
          <p:cNvSpPr/>
          <p:nvPr/>
        </p:nvSpPr>
        <p:spPr>
          <a:xfrm>
            <a:off x="142920" y="3000240"/>
            <a:ext cx="37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ащение предметно-пространственной среды ДОУ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4" descr=""/>
          <p:cNvPicPr/>
          <p:nvPr/>
        </p:nvPicPr>
        <p:blipFill>
          <a:blip r:embed="rId2"/>
          <a:stretch/>
        </p:blipFill>
        <p:spPr>
          <a:xfrm>
            <a:off x="476280" y="1066680"/>
            <a:ext cx="3260520" cy="3645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C:\Documents and Settings\Ганагин\Рабочий стол\f69044c8e3_500.jpg"/>
          <p:cNvPicPr/>
          <p:nvPr/>
        </p:nvPicPr>
        <p:blipFill>
          <a:blip r:embed="rId3"/>
          <a:stretch/>
        </p:blipFill>
        <p:spPr>
          <a:xfrm>
            <a:off x="5643720" y="1000080"/>
            <a:ext cx="2786040" cy="212256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18"/>
          <p:cNvSpPr/>
          <p:nvPr/>
        </p:nvSpPr>
        <p:spPr>
          <a:xfrm>
            <a:off x="4786200" y="6027840"/>
            <a:ext cx="41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астер-класса для родителей по использованию ЛЕГО-конструирования в детском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5" descr="C:\Documents and Settings\Ганагин\Рабочий стол\20170921_007.JPG"/>
          <p:cNvPicPr/>
          <p:nvPr/>
        </p:nvPicPr>
        <p:blipFill>
          <a:blip r:embed="rId4"/>
          <a:stretch/>
        </p:blipFill>
        <p:spPr>
          <a:xfrm>
            <a:off x="5261040" y="3780000"/>
            <a:ext cx="3267000" cy="431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42920" y="785880"/>
          <a:ext cx="8929800" cy="5898960"/>
        </p:xfrm>
        <a:graphic>
          <a:graphicData uri="http://schemas.openxmlformats.org/drawingml/2006/table">
            <a:tbl>
              <a:tblPr/>
              <a:tblGrid>
                <a:gridCol w="423720"/>
                <a:gridCol w="2933640"/>
                <a:gridCol w="571680"/>
                <a:gridCol w="785880"/>
                <a:gridCol w="785880"/>
                <a:gridCol w="285480"/>
                <a:gridCol w="357480"/>
                <a:gridCol w="350640"/>
                <a:gridCol w="316080"/>
                <a:gridCol w="423720"/>
                <a:gridCol w="423720"/>
                <a:gridCol w="424080"/>
                <a:gridCol w="423720"/>
                <a:gridCol w="424080"/>
              </a:tblGrid>
              <a:tr h="2743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лительность,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чал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конч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01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8.02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словий (материально – технических, кадровых, организационно – педагогических) для внедрения ЛЕГО – конструирования и робототехники в образовательный процесс детского с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01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.02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анкетирование на выявление конструктивных и исследовательских навыков у 150 дошкольников старших и подготовительных к школе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3.0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2.05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рмативно-правовой базы 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7.0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9.05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консультаций и семинаров для родителей по ознакомлению с ЛЕГО - конструированием и робототехникой с целью развития конструктивной и исследовательской деятельности до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1.06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.08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актуальной информации о центре на сайтах  образовательных организаций, управления образова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3.07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.08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52280" y="944640"/>
          <a:ext cx="8666280" cy="5427720"/>
        </p:xfrm>
        <a:graphic>
          <a:graphicData uri="http://schemas.openxmlformats.org/drawingml/2006/table">
            <a:tbl>
              <a:tblPr/>
              <a:tblGrid>
                <a:gridCol w="419400"/>
                <a:gridCol w="2499480"/>
                <a:gridCol w="642960"/>
                <a:gridCol w="785880"/>
                <a:gridCol w="785520"/>
                <a:gridCol w="216000"/>
                <a:gridCol w="285480"/>
                <a:gridCol w="285840"/>
                <a:gridCol w="285840"/>
                <a:gridCol w="216000"/>
                <a:gridCol w="285840"/>
                <a:gridCol w="357120"/>
                <a:gridCol w="357120"/>
                <a:gridCol w="285840"/>
                <a:gridCol w="285840"/>
                <a:gridCol w="357120"/>
                <a:gridCol w="315000"/>
              </a:tblGrid>
              <a:tr h="2743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,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оложения о деятельности учебно-игрового ЛЕГО-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входн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валификации педаг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апробация системы занятий, игр и упражнений по ЛЕГО-конструированию и робототехнике в старшей груп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9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87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астер-класса для родителей по использованию ЛЕГО-конструирования в детском са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7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8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52280" y="944640"/>
          <a:ext cx="8666280" cy="5149800"/>
        </p:xfrm>
        <a:graphic>
          <a:graphicData uri="http://schemas.openxmlformats.org/drawingml/2006/table">
            <a:tbl>
              <a:tblPr/>
              <a:tblGrid>
                <a:gridCol w="490680"/>
                <a:gridCol w="2428200"/>
                <a:gridCol w="642960"/>
                <a:gridCol w="785880"/>
                <a:gridCol w="785520"/>
                <a:gridCol w="216000"/>
                <a:gridCol w="285480"/>
                <a:gridCol w="285840"/>
                <a:gridCol w="285840"/>
                <a:gridCol w="216000"/>
                <a:gridCol w="285840"/>
                <a:gridCol w="357120"/>
                <a:gridCol w="357120"/>
                <a:gridCol w="285840"/>
                <a:gridCol w="285840"/>
                <a:gridCol w="357120"/>
                <a:gridCol w="315000"/>
              </a:tblGrid>
              <a:tr h="2743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,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ом сайте управления образования информации о ходе реализации проек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муниципального информационно-методического семинара о работе 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9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ить методические рекомендации по работе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6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8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итогов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9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590" name="Прямоугольник 2"/>
          <p:cNvSpPr/>
          <p:nvPr/>
        </p:nvSpPr>
        <p:spPr>
          <a:xfrm>
            <a:off x="8463600" y="6308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50920" y="571680"/>
          <a:ext cx="8750160" cy="5997240"/>
        </p:xfrm>
        <a:graphic>
          <a:graphicData uri="http://schemas.openxmlformats.org/drawingml/2006/table">
            <a:tbl>
              <a:tblPr/>
              <a:tblGrid>
                <a:gridCol w="463320"/>
                <a:gridCol w="2928960"/>
                <a:gridCol w="647640"/>
                <a:gridCol w="633600"/>
                <a:gridCol w="772920"/>
                <a:gridCol w="470160"/>
                <a:gridCol w="799920"/>
                <a:gridCol w="758880"/>
                <a:gridCol w="708120"/>
                <a:gridCol w="566640"/>
              </a:tblGrid>
              <a:tr h="27432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 проекта,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инвес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хоз. су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словий (материально – технических, кадровых, организационно – педагогических) для внедрения ЛЕГО – конструирования и робототехники в образовательный процесс детского с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анкетирование на выявление конструктивных и исследовательских навыков у 150 дошкольников старших и подготовительных к школе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рмативно-правовой базы  муниципального учебно-игрового лего – цент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консультаций и семинаров для родителей по ознакомлению с ЛЕГО - конструированием и робототехникой с целью развития конструктивной и исследовательской деятельности до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актуальной информации о центре на сайтах  образовательных организаций, управления образова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3" name="Прямоугольник 2"/>
          <p:cNvSpPr/>
          <p:nvPr/>
        </p:nvSpPr>
        <p:spPr>
          <a:xfrm>
            <a:off x="8536680" y="648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42920" y="714240"/>
          <a:ext cx="8786880" cy="5261040"/>
        </p:xfrm>
        <a:graphic>
          <a:graphicData uri="http://schemas.openxmlformats.org/drawingml/2006/table">
            <a:tbl>
              <a:tblPr/>
              <a:tblGrid>
                <a:gridCol w="357120"/>
                <a:gridCol w="2595600"/>
                <a:gridCol w="914400"/>
                <a:gridCol w="703080"/>
                <a:gridCol w="673200"/>
                <a:gridCol w="709560"/>
                <a:gridCol w="800280"/>
                <a:gridCol w="758880"/>
                <a:gridCol w="707760"/>
                <a:gridCol w="567000"/>
              </a:tblGrid>
              <a:tr h="27432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инвест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оложения о деятельности учебно-игрового ЛЕГО-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иагностики конструктивных и исследовательских способностей дошкольников (входная диагност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валификации педаг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апробация системы занятий, игр и упражнений по ЛЕГО-конструированию и робототехнике в старшей груп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,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астер-класса для родителей по использованию ЛЕГО-конструирования в детском са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Прямоугольник 2"/>
          <p:cNvSpPr/>
          <p:nvPr/>
        </p:nvSpPr>
        <p:spPr>
          <a:xfrm>
            <a:off x="8536680" y="648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lakomova_m</cp:lastModifiedBy>
  <cp:lastPrinted>2013-01-24T11:51:16Z</cp:lastPrinted>
  <dcterms:modified xsi:type="dcterms:W3CDTF">2021-07-11T10:58:35Z</dcterms:modified>
  <cp:revision>891</cp:revision>
  <dc:subject/>
  <dc:title>Слайд 1</dc:title>
</cp:coreProperties>
</file>