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7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39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CAC1-C1EA-47F1-AEEF-2381841983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A315-914C-4F5B-A420-9FA540D291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8A5-6461-47A8-8F5F-80D521B4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B82-6B9F-4646-9E21-A7C90CD0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7933B-C8EA-4215-A9BB-3B394B6F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633A5-4F17-4246-A063-88DDCE7C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948E2-DE5D-4D53-81E0-3C5D5289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93943-0F10-44EC-8345-58DB6EFA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D6A6E-1B3F-43DD-9C25-60BEB261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D7EA7-4819-4306-8883-351D5A4E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7D0F2-C8EC-4FBD-8C1A-9F60540C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93FDD-211A-4EB8-9A7D-B6395E24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1E78B-5F4E-4FDB-BF06-AC80547D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EF525-044F-4D1F-9F25-69ACCD21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648-92F0-4D7E-B585-5C553807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3E7F3-F262-4CC8-A143-E66E9BE1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8FEF8-90D8-4703-AEC7-D0527C45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348C4-15D5-4678-B367-231E2ABC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B24E8-1D1B-42BC-BE3B-C96149D5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95CE8-F441-4747-AB77-6E878A7B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4747F-F61A-4DE2-949F-68AC127B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27E9D-C21D-4D3E-A76E-7A34D12B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C790A-4CFD-4391-A8C1-D0721FCA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BDEE9-60A3-43CD-9070-4F754EF1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144D0-36C2-4B13-B22C-1760C9E1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29F-EDFD-45E2-9E59-E3416B41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6E485-A6DE-4238-A741-C3A78EDC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BE019-02C7-4650-BFEE-2F1479F3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A6646-2DC3-430E-B162-E23721B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5CFE8-887F-4341-9B28-D1339AB2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5BFCB-5841-4102-8A06-51AF8A9F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52BE6-64DA-406B-B40D-05F3AFDB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1BA95-CAE0-41FB-B0A7-C780695B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30823-3881-4E62-AF61-F0A1D7A3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2375D-7BC4-415F-9E09-59030BE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C8A7D-36CC-47AF-94A4-70DC31EC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7C72-BD02-41B7-B1D8-49F86C60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39036-46C5-4819-B78F-7D8AB1FA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E2DF7-04C0-4489-924F-3A785EF0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05A06-086E-4A2C-8C33-E82EE5BD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A7EF5-5E3C-4D9A-B81C-DE6FF7F1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AFF05-53DE-4DC4-8ED4-3C5FA8B9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BB612-D7B2-4944-82DD-0ED2F37B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1E511-2FC5-4717-8F51-F72082F8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4C301-15FD-411B-98B7-D28B9B95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B0117-9D7B-42DD-8885-B2AB2656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674FD-17CC-4812-8E3A-3627F74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6A83-A248-4F78-9F93-D008D7EB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94754-4E89-4685-BA0E-FD5DAF58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497CE-8C32-4436-9957-04AE605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CCABD-B2FD-4BD4-9126-F2EA53D1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22E49-F558-40A6-A238-C2F0FC41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CCEF3-71F1-4AB8-BE81-0F33F435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6C9D-9C32-418D-A7CA-DCA62798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97E7-73B1-4F19-9F1A-D468AB36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6E88-61B9-4858-B541-8EC0DEAF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36E3-62AE-4B09-8E09-6AB13013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A1BB-88F6-494C-9519-C5999976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F36-8ED5-444B-92A1-D0392127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631D-0640-4C5C-81D9-7996103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C518-8A06-4E63-99DB-A2AFCC62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DEB2-CB43-4188-B66A-24BDD78E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C601-614B-4FD8-89EA-37ADD081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337F-4F61-47F4-8251-BAF4B5A3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8297-54C1-4346-AB50-55DB21F1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5239-FF0D-4FF7-A4F9-D1C2EBE0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596D6-7D42-4DBB-A07F-5493B019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8AAD-1DC7-425F-8A93-318E04DE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ED55-4903-4DEB-BE62-7DC31A0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356-74E7-4279-805A-73227C00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C22B-A79B-4C17-8D06-9D25F953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CF0B-BD5E-4D5F-921D-DC64F4FE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DE54-9397-490F-9872-8A2FD329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7EF22-7D53-495A-A0AF-8568D3EE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A25D-8579-4C89-B559-5FC23F76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D213-C14B-428C-A522-F7F55FFB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F76C5-D42A-4053-A16B-D60CF812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58A8-BF57-481B-84E5-66987909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B0B6-9120-4E25-9DF7-91565C0D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3863-7307-49D9-AFF6-6B102305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984-E3E6-4FDC-9B1F-D11AC8B8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6DB6-ED5C-4913-87D1-54FCF99C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F4774-AF2C-4D1E-8065-9736EF67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A24E-5DF8-43A4-9D7F-27C6435A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DE42-F133-44A1-8C57-8227DDA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9F49-5872-4875-9A22-D4A5F18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A8AA-A9FB-456A-A3DA-783BF0C1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CD07-CCBE-4F3D-AF5B-B2AE85F9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E500-A48D-4D48-9225-533C82B4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3B16B-30C6-41A2-8FF4-2ABD0540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8A798-A195-4DB8-8B18-8BAF4FFB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1C3-0755-4FC5-8099-B983C61B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2A33-BBD9-4D18-9996-E8344F91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4DB2-905A-4B79-8278-0B5B55F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BF785-27C9-490F-AD00-5BA6BB88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35BC-55B6-46C6-A93A-254E381F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8659A-4E45-4FBE-9CDF-9989FB1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1A50-F869-4E14-A53B-A25DF35F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2E6FC-54CD-4869-936E-AD1298C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15648-9248-441D-AEF8-5D37C96A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31552-2C52-4FC8-887B-1F833E93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9A119-6111-48F6-BD38-93614179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0CA-DBD5-40FF-BDD4-C9A7B31E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4154-7DB2-4FC6-8B72-03C2B401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53FB-4BB1-4033-A84B-A90A536F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09DC1-58CD-40D4-B97D-92F8BB1F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44281-7059-44DE-97F4-72602EEC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02027-00D9-42FE-864E-B7CB4921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A293-1D69-42B6-A4FA-C1EFFABE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92CEC-5C71-4D30-89BA-A8FE4E46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B8C96-5E4D-4237-875F-ED80A63D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3DE9-A756-40C0-92E9-4CF1BFC7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E2DE4-A408-4B02-A127-31270359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E87-10D3-4764-8ED6-C94E99D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FE8C-FBF1-406F-B789-5B7F5A79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27612-59EA-49F6-8E39-1FAFDE58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415D7-B669-4C79-A4BB-7C1C665C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61F57-CEFD-49B1-97F7-62CB2052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4F057-DE75-4127-B407-57E08232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59195-201B-46CA-B6B9-D1C88FA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1BF3F-070C-4A97-B49D-FF34D233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E2D40-82DE-48EA-91BF-F8AA9779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A13D9-1FD1-4725-85D0-5E50BE43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2BAD-A39F-4512-B010-A399D628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BC1-DE02-49C4-AAD4-05D37E5A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E3F31-665C-4CD9-9EB4-4EC82C72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51789-2993-417E-8099-0BB153E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70C4-1446-4FB4-A657-BC396A4F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9667-2A53-4351-AEE4-30EA2CCF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7807E-9FB0-4E30-963D-88375F2C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127F4-A2BB-44AA-BD68-134DBA36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37C20-0579-4A3E-867E-618E6F0C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7181D-A548-4F1F-ADEB-11E0F194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E62F3-95B1-4B84-9735-64810A8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FB5D4-53C8-4EB0-9F51-5F98C8F6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9EA-388C-4E63-AD34-9F75343B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5A749-5E2E-4AF3-BC48-20A6D557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55B89-E4D5-4183-93BA-1BD638F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71FFB-E9A5-485A-B97D-D2E97EB6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5D391-95AB-47F7-AD66-281348A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347AD-653C-42DD-B16C-4774DB5C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608D5-F71E-4A5E-B950-E29C3051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07C0-41E6-47BA-B9CB-3BC91469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CB409-644D-4275-AD8F-476F3564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536F8-E0CC-434F-91D7-4F250B45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90643-6C8A-40AD-A296-C9C9C8A2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BCDF-5A4A-4DA6-AA3F-A78C945F0BF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05D1-875B-4EA3-B3E6-2754C8BAFCB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B467-505C-4867-AF15-6C6EC6C94FD1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AE17-A884-47E6-96DB-CAB73970FC1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D9DA-62DC-4990-853E-9A8B2063E74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3FE1-770E-479C-AF06-9B95B55B1F3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FB80-536B-46E3-A63B-CF0D1644D6C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F85B-64A4-46CA-B413-4230A8B618C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4022640"/>
            <a:ext cx="8643960" cy="25560"/>
            <a:chOff x="506520" y="4022640"/>
            <a:chExt cx="8643960" cy="255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402264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ACDF-78E9-4145-AC89-B853851DBAE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8ECA-D91E-4A3F-8B93-D61FEFDF7736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661B-F441-4531-9FE0-1A4CAF02AD6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479E-0BDB-4AD6-A644-D9180B091CAD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9F22-EAC8-48F9-AEAE-3B1417066F5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7569-2A61-4184-9CE4-E00D3086DC3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3F33-1457-4717-ABB3-D51FEE8C7EDD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8A2F-C246-4B66-931D-AD6EAD6BAF3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D33-2FE0-4ABE-AEE7-D8E92B0F3AD5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B8E2-D09A-40DA-A25F-730D11FD481D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FEFA-B650-4DB2-ADDC-6D804F5C85B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Эффективное управление временем и ресурсами.                                                                                            </a:t>
            </a:r>
            <a:fld id="{298299B6-72BB-4785-AA5B-E032B1E3960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F898-9C2D-49B7-974E-DCE44CC984FD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C460-8140-41C6-87EB-DA5998A0C49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4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0F9-3A0B-4279-B224-B85ECC7D0ED2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C4CC-D13B-4A69-9232-E3F80211B018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dunoskol.ru/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1440" y="213372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464646"/>
                </a:solidFill>
                <a:latin typeface="Franklin Gothic Medium"/>
              </a:rPr>
              <a:t>ПРЕЗЕНТАЦИЯ ПРОЕКТА </a:t>
            </a: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464646"/>
                </a:solidFill>
                <a:latin typeface="Franklin Gothic Medium"/>
              </a:rPr>
              <a:t>«РАЗВИТИЕ ФИЗИКО-МАТЕМАТИЧЕСКОГО ОБРАЗОВАНИЯ В НОВООСКОЛЬСКОМ РАЙОНЕ» </a:t>
            </a:r>
            <a:br>
              <a:rPr sz="2400"/>
            </a:br>
            <a:endParaRPr b="0" lang="en-US" sz="28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80520" y="1628280"/>
            <a:ext cx="84582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правление образования администрации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муниципального района «Новооскольский район»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57120" y="5013360"/>
            <a:ext cx="572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Начальник управления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администрации Новоосколь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Franklin Gothic Book"/>
              </a:rPr>
              <a:t>Нехаев Юрий Никола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32400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Franklin Gothic Book"/>
              </a:rPr>
              <a:t>Новый Оскол, 202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326880" y="230040"/>
            <a:ext cx="1142640" cy="1294920"/>
            <a:chOff x="326880" y="230040"/>
            <a:chExt cx="1142640" cy="1294920"/>
          </a:xfrm>
        </p:grpSpPr>
        <p:pic>
          <p:nvPicPr>
            <p:cNvPr id="561" name="Picture 9" descr="gerbbot"/>
            <p:cNvPicPr/>
            <p:nvPr/>
          </p:nvPicPr>
          <p:blipFill>
            <a:blip r:embed="rId1"/>
            <a:stretch/>
          </p:blipFill>
          <p:spPr>
            <a:xfrm>
              <a:off x="326880" y="1054440"/>
              <a:ext cx="114264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0" descr="gerbtop"/>
            <p:cNvPicPr/>
            <p:nvPr/>
          </p:nvPicPr>
          <p:blipFill>
            <a:blip r:embed="rId2"/>
            <a:stretch/>
          </p:blipFill>
          <p:spPr>
            <a:xfrm>
              <a:off x="326880" y="230040"/>
              <a:ext cx="1142640" cy="82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430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ПОКАЗАТЕЛИ СОЦИАЛЬНОЙ, БЮДЖЕТНОЙ И ЭКОНОМИЧЕСКОЙ ЭФФЕКТИВНОСТИ ПРОЕКТА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79280" y="1073160"/>
          <a:ext cx="8882280" cy="5607000"/>
        </p:xfrm>
        <a:graphic>
          <a:graphicData uri="http://schemas.openxmlformats.org/drawingml/2006/table">
            <a:tbl>
              <a:tblPr/>
              <a:tblGrid>
                <a:gridCol w="466920"/>
                <a:gridCol w="6373800"/>
                <a:gridCol w="1177920"/>
                <a:gridCol w="863640"/>
              </a:tblGrid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циальная эффе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астие населения в реализации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че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овые рабочие ме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яя 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ячный Ф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довой Ф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Иные 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ная эффе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астие бюджетных источников в проек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,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и в консолидированный бюджет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 с 1 работника в консолидированный бюджет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ок окупаемости бюджетных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Снижение возможного ущер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Экономия бюдже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Экономическая эффе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довой объем выручки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довой объем прибыли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нтаб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ок окупаемости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ъем инвестиций в основной капитал в рамках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ъем инвестиций, осваиваемых на территории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ные 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7" name="Прямоугольник 6"/>
          <p:cNvSpPr/>
          <p:nvPr/>
        </p:nvSpPr>
        <p:spPr>
          <a:xfrm>
            <a:off x="179280" y="6626160"/>
            <a:ext cx="61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* - после выхода хозяйствующего субъекта на проектную мощ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6"/>
          <p:cNvSpPr/>
          <p:nvPr/>
        </p:nvSpPr>
        <p:spPr>
          <a:xfrm>
            <a:off x="8607600" y="64404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КОМАНДА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214200" y="509760"/>
          <a:ext cx="8786880" cy="6244920"/>
        </p:xfrm>
        <a:graphic>
          <a:graphicData uri="http://schemas.openxmlformats.org/drawingml/2006/table">
            <a:tbl>
              <a:tblPr/>
              <a:tblGrid>
                <a:gridCol w="363600"/>
                <a:gridCol w="1703520"/>
                <a:gridCol w="3219480"/>
                <a:gridCol w="3500280"/>
              </a:tblGrid>
              <a:tr h="27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Роль в проек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Богачев Виктор Алексе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главы администрации района по социальной полит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тор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ехаев Юрий Никола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 управления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Лакомова Марина Борис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управления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лова Ирина Алексе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управления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ор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Шаталова Людмила Вячеслав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пециалист управления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Д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дникова Ирина Иван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СОШ №1 с УИОП имени Княжны Ольги Николаевны Романовой" г.Новый Оско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СОШ №1 с УИОП г. Новый Оскол имени Княжны Ольги Николаевны Романово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едельченко Ольга Михайл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СОШ№2 с УИОП» г. Новый Оскол Белгородской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СОШ №2 с УИОП г. Новый Оскол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батко Лид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СОШ №3» г. Новый Оскол Белгородской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М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У «СОШ №3  г. Новый Оскол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ко Еле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р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СОШ №4 г.Новый Оскол Белгородской област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СОШ №4 г. Новый Оскол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Виткова Ан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икола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Беломестнен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еломестнен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Прядченко Лидия Александ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Великомихайлов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МБОУ «Великомихайловская СОШ  им. Г.Т. Ильченко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Кривомазова Людми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икола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Голубин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Голубин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Тарасова Надежд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Григор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Глиннов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Глиннов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Прямоугольник 3"/>
          <p:cNvSpPr/>
          <p:nvPr/>
        </p:nvSpPr>
        <p:spPr>
          <a:xfrm>
            <a:off x="8608320" y="64404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КОМАНДА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14200" y="509760"/>
          <a:ext cx="8786880" cy="5935320"/>
        </p:xfrm>
        <a:graphic>
          <a:graphicData uri="http://schemas.openxmlformats.org/drawingml/2006/table">
            <a:tbl>
              <a:tblPr/>
              <a:tblGrid>
                <a:gridCol w="363600"/>
                <a:gridCol w="1703520"/>
                <a:gridCol w="3219480"/>
                <a:gridCol w="3500280"/>
              </a:tblGrid>
              <a:tr h="263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Роль в проек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оватская Раис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«Львов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«Львов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венная Наталья Александ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«Новобезгин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«Новобезгин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нагина Ири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«Старобезгин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«Старобезгин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хова Татья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Тростенец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«Тростенец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тяткова Юл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Шарапов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арапов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ко Зо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Яр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МБОУ «Ярская С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инина Людмила Яковл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Богород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огород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горьева Людмила Александ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Васильдольская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асильдольская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слова Гали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Киселев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иселев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цева Ир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Немцев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емцев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лева Татьяна Митрофан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Ольховат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льховат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сенко Валентина Григор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Осколь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сколь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ева Наталья Никола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Прибрежн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Прибрежн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исимова Алла Михайл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БОУ «Солонец-Полян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Ответственный за реализацию проекта 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Солонец-Полянская ООШ Новооскольского райо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Прямоугольник 3"/>
          <p:cNvSpPr/>
          <p:nvPr/>
        </p:nvSpPr>
        <p:spPr>
          <a:xfrm>
            <a:off x="8610840" y="64404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409320" y="4111560"/>
            <a:ext cx="8458200" cy="217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Руководитель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Нехаев Юрий Николаевич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              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Электронный адрес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ranklin Gothic Book"/>
                <a:hlinkClick r:id="rId1"/>
              </a:rPr>
              <a:t>http://www.edunoskol.ru/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, 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0-90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Администратор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Лакомова Марина Борисовна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1-47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КОНТАКТНЫЕ ДАННЫЕ: </a:t>
            </a:r>
            <a:br>
              <a:rPr sz="3200"/>
            </a:br>
            <a:endParaRPr b="0" lang="en-US" sz="3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1"/>
          <p:cNvSpPr/>
          <p:nvPr/>
        </p:nvSpPr>
        <p:spPr>
          <a:xfrm>
            <a:off x="8394120" y="6093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7" descr=""/>
          <p:cNvPicPr/>
          <p:nvPr/>
        </p:nvPicPr>
        <p:blipFill>
          <a:blip r:embed="rId1"/>
          <a:stretch/>
        </p:blipFill>
        <p:spPr>
          <a:xfrm>
            <a:off x="7215120" y="1857240"/>
            <a:ext cx="1928880" cy="264348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ЕСТЬ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5" name="Прямоугольник 3"/>
          <p:cNvSpPr/>
          <p:nvPr/>
        </p:nvSpPr>
        <p:spPr>
          <a:xfrm>
            <a:off x="8608320" y="644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16"/>
          <p:cNvSpPr/>
          <p:nvPr/>
        </p:nvSpPr>
        <p:spPr>
          <a:xfrm>
            <a:off x="142920" y="1166760"/>
            <a:ext cx="38577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обедителей и призеров регионального этапа всероссийской олимпиады школьников из числа учащихся  общеобразовательных учреждений Новооскольского района по предметам за период (2011-2020 гг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d3c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d3c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d3c4a"/>
                </a:solidFill>
                <a:latin typeface="Times New Roman"/>
                <a:ea typeface="Times New Roman"/>
              </a:rPr>
              <a:t>Физика – 0 челов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d3c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d3c4a"/>
                </a:solidFill>
                <a:latin typeface="Times New Roman"/>
                <a:ea typeface="Times New Roman"/>
              </a:rPr>
              <a:t>Математика - 0 челов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d3c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d3c4a"/>
                </a:solidFill>
                <a:latin typeface="Times New Roman"/>
                <a:ea typeface="Times New Roman"/>
              </a:rPr>
              <a:t>Информатика - 0 человек</a:t>
            </a:r>
            <a:r>
              <a:rPr b="1" lang="ru-RU" sz="1800" spc="-1" strike="noStrike">
                <a:solidFill>
                  <a:srgbClr val="7d3c4a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2"/>
          <a:stretch/>
        </p:blipFill>
        <p:spPr>
          <a:xfrm>
            <a:off x="1071720" y="4000680"/>
            <a:ext cx="2030400" cy="218592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7"/>
          <p:cNvSpPr/>
          <p:nvPr/>
        </p:nvSpPr>
        <p:spPr>
          <a:xfrm>
            <a:off x="4357800" y="121428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Ф сообщило о включении астрономии в число обязательных предметов для изучения в 10-11 классах школы с 2017-2020 учебного год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9" descr="C:\Users\User\Desktop\maxresdefault.jpg"/>
          <p:cNvPicPr/>
          <p:nvPr/>
        </p:nvPicPr>
        <p:blipFill>
          <a:blip r:embed="rId3"/>
          <a:stretch/>
        </p:blipFill>
        <p:spPr>
          <a:xfrm>
            <a:off x="3687840" y="2919240"/>
            <a:ext cx="3859200" cy="432936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7"/>
          <p:cNvSpPr/>
          <p:nvPr/>
        </p:nvSpPr>
        <p:spPr>
          <a:xfrm>
            <a:off x="3571920" y="5357880"/>
            <a:ext cx="514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ась необходимость оснащения кабинетов астрономии необходимым учебно-лабораторным оборудованием и созданием школьной обсерва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Прямоугольник 4"/>
          <p:cNvSpPr/>
          <p:nvPr/>
        </p:nvSpPr>
        <p:spPr>
          <a:xfrm>
            <a:off x="500040" y="28584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Введение в предметную облас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(описание ситуации «как есть»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Рисунок 3" descr="http://www.niro.nnov.ru/_data/objects/0001/9260/view_file.jpg"/>
          <p:cNvPicPr/>
          <p:nvPr/>
        </p:nvPicPr>
        <p:blipFill>
          <a:blip r:embed="rId1"/>
          <a:stretch/>
        </p:blipFill>
        <p:spPr>
          <a:xfrm>
            <a:off x="5407200" y="1279440"/>
            <a:ext cx="2792160" cy="36338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85880" y="1143000"/>
            <a:ext cx="32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РЕЗУЛЬТАТ СДАЧИ ГИ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В 2017-2020 УЧЕБНОМ ГОДУ</a:t>
            </a:r>
            <a:endParaRPr b="0" lang="en-US" sz="16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574" name="Содержимое 12" descr=""/>
          <p:cNvPicPr/>
          <p:nvPr/>
        </p:nvPicPr>
        <p:blipFill>
          <a:blip r:embed="rId2"/>
          <a:stretch/>
        </p:blipFill>
        <p:spPr>
          <a:xfrm>
            <a:off x="285840" y="2000160"/>
            <a:ext cx="5143320" cy="2579760"/>
          </a:xfrm>
          <a:prstGeom prst="rect">
            <a:avLst/>
          </a:prstGeom>
          <a:ln w="0">
            <a:noFill/>
          </a:ln>
        </p:spPr>
      </p:pic>
      <p:pic>
        <p:nvPicPr>
          <p:cNvPr id="575" name="Object 3" descr=""/>
          <p:cNvPicPr/>
          <p:nvPr/>
        </p:nvPicPr>
        <p:blipFill>
          <a:blip r:embed="rId3"/>
          <a:stretch/>
        </p:blipFill>
        <p:spPr>
          <a:xfrm>
            <a:off x="3643200" y="4071960"/>
            <a:ext cx="5286600" cy="2579760"/>
          </a:xfrm>
          <a:prstGeom prst="rect">
            <a:avLst/>
          </a:prstGeom>
          <a:ln w="0">
            <a:noFill/>
          </a:ln>
        </p:spPr>
      </p:pic>
      <p:sp>
        <p:nvSpPr>
          <p:cNvPr id="576" name="Заголовок 8"/>
          <p:cNvSpPr/>
          <p:nvPr/>
        </p:nvSpPr>
        <p:spPr>
          <a:xfrm>
            <a:off x="5500800" y="3357720"/>
            <a:ext cx="321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РЕЗУЛЬТАТ СДАЧИ ЕГЭ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В 2017-2020 УЧЕБНОМ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Заголовок 8"/>
          <p:cNvSpPr/>
          <p:nvPr/>
        </p:nvSpPr>
        <p:spPr>
          <a:xfrm>
            <a:off x="500040" y="4857840"/>
            <a:ext cx="3214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РЕДНЕЕ КАЧЕСТВО ЗНАНИ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В 2017-2020 УЧЕБНОМ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ПО ПРЕДМЕТАМ: ФИЗИКА, МАТЕМАТИКА, ИНФОРМАТИКА В 1-11 КЛАССАХ = 27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9"/>
          <p:cNvSpPr/>
          <p:nvPr/>
        </p:nvSpPr>
        <p:spPr>
          <a:xfrm>
            <a:off x="8505000" y="6286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85760" y="642960"/>
          <a:ext cx="8815320" cy="6215040"/>
        </p:xfrm>
        <a:graphic>
          <a:graphicData uri="http://schemas.openxmlformats.org/drawingml/2006/table">
            <a:tbl>
              <a:tblPr/>
              <a:tblGrid>
                <a:gridCol w="1671480"/>
                <a:gridCol w="7143840"/>
              </a:tblGrid>
              <a:tr h="72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1 декабря 2021 года повысить качество физико-математического образования для не менее 1800 учащихся 22 общеобразовательных учреждений Новооскольского район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достижения 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атериально-технических, кадровых, информационно-методических условий для  повышения качества физико-математического образования учащихся и воспитанников образовательных учреждений Новооскольского районах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проек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 у не менее 1800 учащихся по предметам математика, физика и информатика составляет не менее 3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у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зработан и утвержден план мероприятий по реализации концепции физико-математического образования в не менее 22 общеобразовательных учреждениях Новооскольского райо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зработано и утверждено не менее 3 положений о конкурсах среди обучающихся и педагогических работников, направленных на развитие физико-математического обра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зработаны и выполнены не менее 250 индивидуальных программ подготовки обучающихся к школьному, муниципальному и региональному этапам всероссийской олимпиады школьников по матема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рганизовано участие обучающихся не менее чем в 5 творческих конкурсах, направленных на развитие физико-математической культуры, и олимпиадах различного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роведена районная неделя науки, посвященной предметам естественно-математического цик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ели результата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, родители и учащиеся 5-11 классов образовательных учреждений Новоосколь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1" name="TextBox 5"/>
          <p:cNvSpPr/>
          <p:nvPr/>
        </p:nvSpPr>
        <p:spPr>
          <a:xfrm>
            <a:off x="4861080" y="152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4"/>
          <p:cNvSpPr/>
          <p:nvPr/>
        </p:nvSpPr>
        <p:spPr>
          <a:xfrm>
            <a:off x="8608320" y="644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4" name="Заголовок 1"/>
          <p:cNvSpPr/>
          <p:nvPr/>
        </p:nvSpPr>
        <p:spPr>
          <a:xfrm>
            <a:off x="642960" y="3143160"/>
            <a:ext cx="7500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12"/>
          <p:cNvSpPr/>
          <p:nvPr/>
        </p:nvSpPr>
        <p:spPr>
          <a:xfrm>
            <a:off x="357120" y="4071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а и проведена районная неделя науки, посвященной предметам естественно-математическ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1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4143240" cy="2590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2"/>
          <a:stretch/>
        </p:blipFill>
        <p:spPr>
          <a:xfrm>
            <a:off x="5000760" y="3429000"/>
            <a:ext cx="3849480" cy="288936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6"/>
          <p:cNvSpPr/>
          <p:nvPr/>
        </p:nvSpPr>
        <p:spPr>
          <a:xfrm>
            <a:off x="4857840" y="19288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о участие обучающихся в творческих конкурсах, направленных на развитие математической культуры, и олимпиадах различ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7"/>
          <p:cNvSpPr/>
          <p:nvPr/>
        </p:nvSpPr>
        <p:spPr>
          <a:xfrm>
            <a:off x="8608320" y="644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9200" y="784080"/>
          <a:ext cx="8850600" cy="5799240"/>
        </p:xfrm>
        <a:graphic>
          <a:graphicData uri="http://schemas.openxmlformats.org/drawingml/2006/table">
            <a:tbl>
              <a:tblPr/>
              <a:tblGrid>
                <a:gridCol w="277920"/>
                <a:gridCol w="2351160"/>
                <a:gridCol w="561960"/>
                <a:gridCol w="730440"/>
                <a:gridCol w="857160"/>
                <a:gridCol w="285840"/>
                <a:gridCol w="285480"/>
                <a:gridCol w="214560"/>
                <a:gridCol w="285480"/>
                <a:gridCol w="214560"/>
                <a:gridCol w="285480"/>
                <a:gridCol w="214560"/>
                <a:gridCol w="214200"/>
                <a:gridCol w="263520"/>
                <a:gridCol w="262080"/>
                <a:gridCol w="350640"/>
                <a:gridCol w="352440"/>
                <a:gridCol w="281160"/>
                <a:gridCol w="280800"/>
                <a:gridCol w="281160"/>
              </a:tblGrid>
              <a:tr h="202680"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ь,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нормативной докум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0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и утвердить план мероприятий по реализации концепции физико-математического образования в системе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0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0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и утвердить положение о массовых мероприятиях среди обучающихся и педагогических работников, направленных на развитие математического образова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0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1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мониторинг эффективности реализации комплекса мер, направленных на реализацию Концепции математическ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0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1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и индивидуальные программы подготовки обучающихся к школьному, муниципальному и региональному этапам всероссийской олимпиады школьников по математ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1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сновной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01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0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Провести анкетирование для определения уровня подготовки учащихся  и воспитанников Д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01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2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методические рекомендации по использованию игр и игрушек, направленных на раннее развитие математической грамотности и культуры среди родителей, воспитателей и Д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2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.03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и провести семинар математической направленности для воспитателей дошкольных организац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.03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4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рганизация весенней школы по олимпиадному движению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4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5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2" name="Таблица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8685360" y="6572160"/>
            <a:ext cx="458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777F-D203-451D-B4BB-35200DB9CAF8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79200" y="784080"/>
          <a:ext cx="8850600" cy="3810240"/>
        </p:xfrm>
        <a:graphic>
          <a:graphicData uri="http://schemas.openxmlformats.org/drawingml/2006/table">
            <a:tbl>
              <a:tblPr/>
              <a:tblGrid>
                <a:gridCol w="277920"/>
                <a:gridCol w="2351160"/>
                <a:gridCol w="561960"/>
                <a:gridCol w="730440"/>
                <a:gridCol w="857160"/>
                <a:gridCol w="285840"/>
                <a:gridCol w="285480"/>
                <a:gridCol w="214560"/>
                <a:gridCol w="285480"/>
                <a:gridCol w="214560"/>
                <a:gridCol w="285480"/>
                <a:gridCol w="214560"/>
                <a:gridCol w="214200"/>
                <a:gridCol w="263520"/>
                <a:gridCol w="262080"/>
                <a:gridCol w="350640"/>
                <a:gridCol w="352440"/>
                <a:gridCol w="281160"/>
                <a:gridCol w="280800"/>
                <a:gridCol w="281160"/>
              </a:tblGrid>
              <a:tr h="152640"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ь,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участие обучающихся не менее чем в 5 конкурсах по физике математике, информатике различного уров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0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09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и провести районную неделю науки, посвященную предметам естественно-математического цик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9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10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1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4864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на официальном сайте управления образования информации о ходе реализации проек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12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948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муниципального информационно-методического семинара по итогам реализации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1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2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4572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Провести итоговое анкетирование для определения уровня подготовки учащихся  и воспитанников Д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1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2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15264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0.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596" name="Таблица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Номер слайда 3"/>
          <p:cNvSpPr/>
          <p:nvPr/>
        </p:nvSpPr>
        <p:spPr>
          <a:xfrm>
            <a:off x="8532720" y="6429240"/>
            <a:ext cx="459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887C-04C4-49DD-8EF0-1F91FDAD7590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8459640" y="6429240"/>
            <a:ext cx="532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CE20-F167-4ED4-80A0-F4858D488FE2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79200" y="784080"/>
          <a:ext cx="8885520" cy="1882800"/>
        </p:xfrm>
        <a:graphic>
          <a:graphicData uri="http://schemas.openxmlformats.org/drawingml/2006/table">
            <a:tbl>
              <a:tblPr/>
              <a:tblGrid>
                <a:gridCol w="482760"/>
                <a:gridCol w="3621240"/>
                <a:gridCol w="603000"/>
                <a:gridCol w="577800"/>
                <a:gridCol w="576360"/>
                <a:gridCol w="488880"/>
                <a:gridCol w="714600"/>
                <a:gridCol w="714240"/>
                <a:gridCol w="642960"/>
                <a:gridCol w="463680"/>
              </a:tblGrid>
              <a:tr h="244800"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 проекта,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источ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бюджетные источ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 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инвес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хоз. субъ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емные 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нормативной докум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участие обучающихся не менее чем в 5 конкурсах по физике математике, информатике различного уров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1" name="Таблица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УЧАСТИЕ БЮДЖЕТОВ В ПРОЕКТЕ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250920" y="1116000"/>
          <a:ext cx="8785080" cy="5192640"/>
        </p:xfrm>
        <a:graphic>
          <a:graphicData uri="http://schemas.openxmlformats.org/drawingml/2006/table">
            <a:tbl>
              <a:tblPr/>
              <a:tblGrid>
                <a:gridCol w="461880"/>
                <a:gridCol w="3498840"/>
                <a:gridCol w="1584360"/>
                <a:gridCol w="1511280"/>
                <a:gridCol w="1728720"/>
              </a:tblGrid>
              <a:tr h="33516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орма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змер участия бюджета 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едер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с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ямое бюджетное финанс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емельный учас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нфра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р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Электро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азо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до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есп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арант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6000" r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чие формы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36000" r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rIns="14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Прямоугольник 6"/>
          <p:cNvSpPr/>
          <p:nvPr/>
        </p:nvSpPr>
        <p:spPr>
          <a:xfrm>
            <a:off x="8608320" y="644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lakomova_m</cp:lastModifiedBy>
  <cp:lastPrinted>2013-01-24T11:51:16Z</cp:lastPrinted>
  <dcterms:modified xsi:type="dcterms:W3CDTF">2021-07-11T11:50:48Z</dcterms:modified>
  <cp:revision>962</cp:revision>
  <dc:subject/>
  <dc:title>Слайд 1</dc:title>
</cp:coreProperties>
</file>