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B9D-99F3-4C50-91CC-64586A90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433-A803-4E32-B8B0-7C6581AE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D0E5-1C96-45EE-BF82-F68185FF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861-A7E1-45FF-B5C5-EE57C3E4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C45-5750-46AE-8939-F0C14FE22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36DA-20DE-44E5-9A66-56C78F9D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B3E-3CD9-483A-B675-D95618D0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7898-6542-4996-BC00-25A65CC0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983-145A-4354-915E-C3809B10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2D4-55C9-4C99-AD6D-96665F5F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B95-791A-4EC0-92C7-98560657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D808-EECF-4C5E-A8D2-B972CDEC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EC94-4628-413A-80B7-6ED8334DF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общение опыта по теме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спользование дифференцированного подход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к средство повышения качества знаний обучающихс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 уроках математ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учить в педагогической литературе методические аспекты использования дифференцированного подхода для повышения качества знаний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использовать на практике изучаемый метод обучения с целью повышения качества знаний обучаю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ифференцированный подход к учащимся осуществляется на всех этапах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. 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. Объясн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3. Закрепл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4. 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зультативность опы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7360" y="1370160"/>
            <a:ext cx="765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ы государственной (итоговой) аттес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ускников 9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44440" y="2514600"/>
          <a:ext cx="8613720" cy="3319560"/>
        </p:xfrm>
        <a:graphic>
          <a:graphicData uri="http://schemas.openxmlformats.org/drawingml/2006/table">
            <a:tbl>
              <a:tblPr/>
              <a:tblGrid>
                <a:gridCol w="1432080"/>
                <a:gridCol w="1541520"/>
                <a:gridCol w="468000"/>
                <a:gridCol w="468360"/>
                <a:gridCol w="470160"/>
                <a:gridCol w="471240"/>
                <a:gridCol w="2000160"/>
                <a:gridCol w="176220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учащихся, сдававших экзаме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ли отмет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чество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певае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-20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спех является источником внутренних сил ребенка, рождающий энергию для преодоления трудностей, желания учиться. Ребенок испытывает уверенность в себе и внутреннее удовлетворение. На основе всего этого, можно сделать вывод: успех в учебе – завтрашний успех в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няная Лилия Федо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ооскольский рай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«Львовская С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657600" y="152280"/>
            <a:ext cx="2590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Информация об опы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ия возникновения и становления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ыт формировался на баз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«Львовск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вооскольского района Белгород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ласти», в которой я работаю с 2007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дущая педагогическая идея опы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ование дифференцированного подхода с целью повышения качества знаний обучаю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лительность работы над опытом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данной теме работа ведется с 2011-2012 учебного г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овизна опы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здание системы применения дифференцированного подхода на уроках математики, направленной на повышение качества знаний обучающихся 5-9 класс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етическая база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идактике обучение принято считать дифференцированным, если в его процессе учитываются индивидуальные различия учащихся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М.Н. Скаткина “Дидактика средней школы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83818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Цели дифференциации обуч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 психолого-педагогической точки з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ивидуализация обучения, основанная на создании оптимальных условий для выявления задатков, развития интересов и способностей каждого шк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 социальной точки з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целенаправленное воздействие на формирование индивидуального творческого, профессионального потенциала общества в целях рационального использования возможностей каждого члена в обществе в его взаимоотношениях с социум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 дидактической точки зрен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ешение назревших проблем школы путём создания новой методической системы дифференцированного обучения учащихся, основанной на принципиально новой мотивационной основ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533520"/>
            <a:ext cx="8686080" cy="5514480"/>
            <a:chOff x="228600" y="533520"/>
            <a:chExt cx="8686080" cy="5514480"/>
          </a:xfrm>
        </p:grpSpPr>
        <p:cxnSp>
          <p:nvCxnSpPr>
            <p:cNvPr id="51" name="_s13323"/>
            <p:cNvCxnSpPr>
              <a:stCxn id="52" idx="0"/>
              <a:endCxn id="53" idx="2"/>
            </p:cNvCxnSpPr>
            <p:nvPr/>
          </p:nvCxnSpPr>
          <p:spPr>
            <a:xfrm flipV="1" rot="16200000">
              <a:off x="5189400" y="2120760"/>
              <a:ext cx="1103040" cy="2338560"/>
            </a:xfrm>
            <a:prstGeom prst="bentConnector3">
              <a:avLst>
                <a:gd name="adj1" fmla="val 126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22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2850840" y="2120400"/>
              <a:ext cx="1103040" cy="2339640"/>
            </a:xfrm>
            <a:prstGeom prst="bentConnector3">
              <a:avLst>
                <a:gd name="adj1" fmla="val 126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18"/>
            <p:cNvSpPr/>
            <p:nvPr/>
          </p:nvSpPr>
          <p:spPr>
            <a:xfrm>
              <a:off x="2567520" y="533520"/>
              <a:ext cx="4008960" cy="2205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иды дифференциаци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19"/>
            <p:cNvSpPr/>
            <p:nvPr/>
          </p:nvSpPr>
          <p:spPr>
            <a:xfrm>
              <a:off x="228600" y="3842280"/>
              <a:ext cx="4008960" cy="2205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нутрення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20"/>
            <p:cNvSpPr/>
            <p:nvPr/>
          </p:nvSpPr>
          <p:spPr>
            <a:xfrm>
              <a:off x="4905720" y="3842280"/>
              <a:ext cx="4008960" cy="2205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нешня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хнология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повышение качества знаний обучающихся  по математике посредством использования дифференцированного подхода на разных этапах урока, при проведении контрольны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19T12:46:3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