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FBE-6834-46AB-AA2F-61D62EFC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4A6-C222-4AA9-AAC1-6DB55F46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383-F545-4F05-9034-82DC72BB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882-BEA3-4B22-A644-9C5657D4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A431-1BFD-4A7C-9A7C-ED171E78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37FC-2B19-4BE5-ADA7-142E5C6F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1EE4-44AA-4654-BAD7-B424DF29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CA1D-F371-45D4-BB86-06701D96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4A03-B64D-4E70-B2BB-A298AE87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DC60-1FB1-4284-AC78-59E00335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7489-5325-41BF-8EC8-E8C7AC6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C7E-5680-4A0C-B269-5CC53C48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DC6D-E5F0-466E-BFA9-8AE2E499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31BD-9109-4185-B722-D91269F1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4B0F-1AEB-41FE-BB21-9FF90FBB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538A-356D-423F-8611-40931FBC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83A9-2FFE-4627-9023-9F0D8765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C26-88A8-486B-93AB-5E136B8A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044-BAC9-44A8-9721-3E7B135C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AB0-39FE-48E2-A45B-241F70B2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98A-7E13-41DF-A045-6F1980A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F0F-6465-4C83-B722-B984D0CD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84D-DE32-4E82-8F0B-CEE93598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5F7-8123-4C80-AED5-034743A3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9AF7-0C4A-41C8-8522-7ED0F28D2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AFD5-4C25-449A-BDB6-220EAE63EC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толетняя война. Жакерия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Даценко Татьяна Геннадьев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учитель истор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сновные сраже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346 г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ражение у Крес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7" descr="img093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сновные сраже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356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тва у г. Пуать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погиб весь цвет Франц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img090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495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68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68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346г. У Крес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340 г.при Слей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356 г. у г. Пуать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img360"/>
          <p:cNvPicPr/>
          <p:nvPr/>
        </p:nvPicPr>
        <p:blipFill>
          <a:blip r:embed="rId1"/>
          <a:stretch/>
        </p:blipFill>
        <p:spPr>
          <a:xfrm>
            <a:off x="4500720" y="260280"/>
            <a:ext cx="4464000" cy="64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Жакер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358 год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ильом Ка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img365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осстание было стихийным и неподготовленным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img094"/>
          <p:cNvPicPr/>
          <p:nvPr/>
        </p:nvPicPr>
        <p:blipFill>
          <a:blip r:embed="rId1"/>
          <a:stretch/>
        </p:blipFill>
        <p:spPr>
          <a:xfrm>
            <a:off x="500040" y="150012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осстание потерпело поражение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5" descr="img367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оотнесите дату и событие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484280"/>
          <a:ext cx="8229600" cy="3995640"/>
        </p:xfrm>
        <a:graphic>
          <a:graphicData uri="http://schemas.openxmlformats.org/drawingml/2006/table">
            <a:tbl>
              <a:tblPr/>
              <a:tblGrid>
                <a:gridCol w="4103640"/>
                <a:gridCol w="41259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быт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ата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Жаке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)1356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Битва у г. Крес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) Май 1358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Битва при г. Слейс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) 1346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Битва у г. Пуать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) 1340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верьте правильность заполнения таблиц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-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-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- 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-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ас ждет много интересного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осстание Уота Тайлер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6" descr="img364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52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mg363"/>
          <p:cNvPicPr/>
          <p:nvPr/>
        </p:nvPicPr>
        <p:blipFill>
          <a:blip r:embed="rId2"/>
          <a:stretch/>
        </p:blipFill>
        <p:spPr>
          <a:xfrm>
            <a:off x="250920" y="306864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Ещё нас ждет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знаем, кто является народной героиней Франции-15 век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5" descr="img096"/>
          <p:cNvPicPr/>
          <p:nvPr/>
        </p:nvPicPr>
        <p:blipFill>
          <a:blip r:embed="rId1"/>
          <a:stretch/>
        </p:blipFill>
        <p:spPr>
          <a:xfrm>
            <a:off x="468360" y="1341360"/>
            <a:ext cx="4032360" cy="475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Эта война была между двумя странам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Англия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Франция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 наконе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знаем, как закончилась  самая длинная война -Столетняя вой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6" descr="img095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исок литератур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0" y="185724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гибалова ЕВ, Донской ГМ  История средних веков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6 класс-М.: Просвещение, 200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стория средних веков Хрестоматия М.: Просвещение 198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Энциклопедия для детей Аванта+, Всемирная истори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ом1,М.: Аванта+,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img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чины войн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лание королей Франции объедин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желание Англии терять свои территории во Франции: часть Аквитании,  область Крес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ор из-за Фландр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337-1453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 самом деле война длилас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16 лет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7" descr="img100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ойско Франци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стояло из рыцарских отря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ыцари не признавали дисципли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хота состояла из чужеземных наемни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7" descr="img099"/>
          <p:cNvPicPr/>
          <p:nvPr/>
        </p:nvPicPr>
        <p:blipFill>
          <a:blip r:embed="rId1"/>
          <a:stretch/>
        </p:blipFill>
        <p:spPr>
          <a:xfrm>
            <a:off x="4643280" y="1413000"/>
            <a:ext cx="4032360" cy="46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ойско Англи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андовал сам корол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ходили: рыцари, пехо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огая дисцип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img098"/>
          <p:cNvPicPr/>
          <p:nvPr/>
        </p:nvPicPr>
        <p:blipFill>
          <a:blip r:embed="rId1"/>
          <a:stretch/>
        </p:blipFill>
        <p:spPr>
          <a:xfrm>
            <a:off x="500040" y="150012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аблица военных действий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раж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г. Крес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 Слейс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г. Пуать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сновные сраже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340 год- морское сражение при г. Слейсе у берегов Фландр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6" descr="img362"/>
          <p:cNvPicPr/>
          <p:nvPr/>
        </p:nvPicPr>
        <p:blipFill>
          <a:blip r:embed="rId1"/>
          <a:stretch/>
        </p:blipFill>
        <p:spPr>
          <a:xfrm>
            <a:off x="4500720" y="1557360"/>
            <a:ext cx="4174920" cy="453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7:36:13Z</dcterms:created>
  <dc:creator>Класс1</dc:creator>
  <dc:description/>
  <dc:language>en-US</dc:language>
  <cp:lastModifiedBy>Андрей</cp:lastModifiedBy>
  <dcterms:modified xsi:type="dcterms:W3CDTF">2013-12-12T16:38:06Z</dcterms:modified>
  <cp:revision>22</cp:revision>
  <dc:subject/>
  <dc:title>Столетняя война</dc:title>
</cp:coreProperties>
</file>